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17.gif" ContentType="image/gif"/>
  <Override PartName="/ppt/media/image6.png" ContentType="image/png"/>
  <Override PartName="/ppt/media/image10.wmf" ContentType="image/x-wmf"/>
  <Override PartName="/ppt/media/image25.jpeg" ContentType="image/jpeg"/>
  <Override PartName="/ppt/media/image7.png" ContentType="image/png"/>
  <Override PartName="/ppt/media/image22.jpeg" ContentType="image/jpeg"/>
  <Override PartName="/ppt/media/image9.png" ContentType="image/png"/>
  <Override PartName="/ppt/media/image26.png" ContentType="image/png"/>
  <Override PartName="/ppt/media/image3.png" ContentType="image/png"/>
  <Override PartName="/ppt/media/image11.wmf" ContentType="image/x-wmf"/>
  <Override PartName="/ppt/media/image8.png" ContentType="image/png"/>
  <Override PartName="/ppt/media/image15.wmf" ContentType="image/x-wmf"/>
  <Override PartName="/ppt/media/image14.jpeg" ContentType="image/jpeg"/>
  <Override PartName="/ppt/media/image30.jpeg" ContentType="image/jpeg"/>
  <Override PartName="/ppt/media/image24.jpeg" ContentType="image/jpeg"/>
  <Override PartName="/ppt/media/image5.png" ContentType="image/png"/>
  <Override PartName="/ppt/media/image28.png" ContentType="image/png"/>
  <Override PartName="/ppt/media/image29.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2.jpeg" ContentType="image/jpeg"/>
  <Override PartName="/ppt/media/image31.png" ContentType="image/png"/>
  <Override PartName="/ppt/media/image1.png" ContentType="image/png"/>
  <Override PartName="/ppt/media/image16.png" ContentType="image/png"/>
  <Override PartName="/ppt/media/image21.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57BA7-4E33-4928-8499-2A4A3057C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28D5-7E6F-4C2C-861B-26ADB002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3723A-4AD0-43BF-9C18-B39BAD63E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ACF8F-2C45-4422-A0C1-9D7F30902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E503F-59ED-4573-A2F8-39B84BD4D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D9D9E-78B2-43D9-85FB-978B6AA4C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7F04-C487-4FFD-BF06-810BFE61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CF566-C21D-423F-AEB9-6391B9903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DA82C-DC4C-40FC-A3E8-5FE2F4AC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8988-F0FD-41D4-BF4A-CBC537B5E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2E7F1-AA65-4E96-BCE7-8847F4CA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D62A-F41B-468D-A1F6-FF7481227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2BF2-6CCE-463D-8D31-CE9AF747F82B}"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eid.upatras.gr/faculty/alexiou/eis_sys/notes/YLIKO_PARADOSEWN/09_wlan+.pdf" TargetMode="External"/><Relationship Id="rId2"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ceid.upatras.gr/faculty/alexiou/eis_sys/notes/YLIKO_PARADOSEWN/09_wlan+.pdf" TargetMode="External"/><Relationship Id="rId3"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eid.upatras.gr/faculty/alexiou/eis_sys/notes/YLIKO_PARADOSEWN/09_wlan+.pdf" TargetMode="External"/><Relationship Id="rId2"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3"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4"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5" Type="http://schemas.openxmlformats.org/officeDocument/2006/relationships/hyperlink" Targe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sers.sch.gr/angnikolou/tech_v/wireless.htm" TargetMode="External"/><Relationship Id="rId2" Type="http://schemas.openxmlformats.org/officeDocument/2006/relationships/hyperlink" Target="http://www.cisco.com/web/GR/solutions/smb/products/wireless/wireless_primer.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hyperlink" Target="http://el.wikipedia.org/wiki/Wi-Fi"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conta.uom.gr/conta/ekpaideysh/metaptyxiaka/technologies_diktywn/ergasies/2005/Educational%20software%20of%20self-teaching%20of%20Protocols%20for%20Wireless%20Networks.pdf" TargetMode="External"/><Relationship Id="rId3" Type="http://schemas.openxmlformats.org/officeDocument/2006/relationships/hyperlink" Target="http://195.251.240.254:8080/bitstream/handle/10184/806/asyrmata%20diktya.pdf?sequence=2"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el.wikipedia.org/wiki/Internet" TargetMode="External"/><Relationship Id="rId2" Type="http://schemas.openxmlformats.org/officeDocument/2006/relationships/hyperlink" Target="http://el.wikipedia.org/wiki/ADSL" TargetMode="External"/><Relationship Id="rId3" Type="http://schemas.openxmlformats.org/officeDocument/2006/relationships/hyperlink" Target="http://el.wikipedia.org/wiki/ADSL" TargetMode="External"/><Relationship Id="rId4" Type="http://schemas.openxmlformats.org/officeDocument/2006/relationships/hyperlink" Target="http://el.wikipedia.org/wiki/WiMAX" TargetMode="External"/><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pestaola.gr/wimax-in-plain-greek/&#957;"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eu.mio.com/el_gr/global-positioning-system_how-does-gps-work.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195.251.240.254:8080/bitstream/handle/10184/806/asyrmata%20diktya.pdf?sequence=2"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coolweb.gr/ti-einai-gps-pos-leitourge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xplain.gr/index.php/2009-12-24-19-42-17/62--gps/"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eu.mio.com/el_gr/global-positioning-system_applications-of-gps.ht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195.251.240.254:8080/bitstream/handle/10184/806/asyrmata%20diktya.pdf?sequence=2"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nta.uom.gr/conta/ekpaideysh/metaptyxiaka/technologies_diktywn/ergasies/2005/Educational%20software%20of%20self-teaching%20of%20Protocols%20for%20Wireless%20Networks.pdf"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conta.uom.gr/conta/ekpaideysh/metaptyxiaka/technologies_diktywn/ergasies/2005/Educational%20software%20of%20self-teaching%20of%20Protocols%20for%20Wireless%20Networks.pdf" TargetMode="External"/><Relationship Id="rId2" Type="http://schemas.openxmlformats.org/officeDocument/2006/relationships/hyperlink" Target="http://de.teikav.edu.gr/telematics/pdf/3o_Meros_Asyrmata_thlematikh.pdf"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5 - Εικόνα" descr="wireless-network-1a.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436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800" spc="-1" strike="noStrike" u="sng">
                <a:solidFill>
                  <a:srgbClr val="0d0d0d"/>
                </a:solidFill>
                <a:uFillTx/>
                <a:latin typeface="Arial"/>
              </a:rPr>
              <a:t>ΕΡΓΑΣΙΑ: ΑΣΥΡΜΑΤΑ ΔΙΚΤΥΑ</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ΑΦΡΟΔΙΤΗ ΣΤΕΦΑΝΙΑ-ΜΠΡΑΤΣΙΩΤΗ</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ΑΙΜΙΛΙΑ ΠΑΓΩΝΑ</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d60000"/>
                </a:solidFill>
                <a:latin typeface="Arial"/>
              </a:rPr>
              <a:t>ΓΙΩΡΓΟΣ ΧΑΙΔΕΜΕΝΟ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3" name=""/>
          <p:cNvSpPr txBox="1"/>
          <p:nvPr/>
        </p:nvSpPr>
        <p:spPr>
          <a:xfrm>
            <a:off x="457200" y="1599840"/>
            <a:ext cx="8229600" cy="463716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802.11a</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 πρότυπο 802.11</a:t>
            </a:r>
            <a:r>
              <a:rPr b="0" i="1" lang="en-US" sz="1800" spc="-1" strike="noStrike">
                <a:solidFill>
                  <a:srgbClr val="000000"/>
                </a:solidFill>
                <a:latin typeface="Arial"/>
              </a:rPr>
              <a:t>a</a:t>
            </a:r>
            <a:r>
              <a:rPr b="0" i="1" lang="el-GR" sz="1800" spc="-1" strike="noStrike">
                <a:solidFill>
                  <a:srgbClr val="000000"/>
                </a:solidFill>
                <a:latin typeface="Arial"/>
              </a:rPr>
              <a:t> όπως και το πρότυπο 802.11</a:t>
            </a:r>
            <a:r>
              <a:rPr b="0" i="1" lang="en-US" sz="1800" spc="-1" strike="noStrike">
                <a:solidFill>
                  <a:srgbClr val="000000"/>
                </a:solidFill>
                <a:latin typeface="Arial"/>
              </a:rPr>
              <a:t>b</a:t>
            </a:r>
            <a:r>
              <a:rPr b="0" i="1" lang="el-GR" sz="1800" spc="-1" strike="noStrike">
                <a:solidFill>
                  <a:srgbClr val="000000"/>
                </a:solidFill>
                <a:latin typeface="Arial"/>
              </a:rPr>
              <a:t> θεσπίστηκε τον Ιούλιο του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1999. Εισήλθε στην αγορά αφού το 802.11</a:t>
            </a:r>
            <a:r>
              <a:rPr b="0" i="1" lang="en-US" sz="1800" spc="-1" strike="noStrike">
                <a:solidFill>
                  <a:srgbClr val="000000"/>
                </a:solidFill>
                <a:latin typeface="Arial"/>
              </a:rPr>
              <a:t>b</a:t>
            </a:r>
            <a:r>
              <a:rPr b="0" i="1" lang="el-GR" sz="1800" spc="-1" strike="noStrike">
                <a:solidFill>
                  <a:srgbClr val="000000"/>
                </a:solidFill>
                <a:latin typeface="Arial"/>
              </a:rPr>
              <a:t> είχε ήδη ένα μεγάλο μερίδιο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υτής.. Η τεχνολογία που χρησιμοποιεί προσφέρει πολλά πλεονεκτήματα σε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χέση με αυτή του 802.11</a:t>
            </a:r>
            <a:r>
              <a:rPr b="0" i="1" lang="en-US" sz="1800" spc="-1" strike="noStrike">
                <a:solidFill>
                  <a:srgbClr val="000000"/>
                </a:solidFill>
                <a:latin typeface="Arial"/>
              </a:rPr>
              <a:t>b</a:t>
            </a:r>
            <a:r>
              <a:rPr b="0" i="1" lang="el-GR" sz="1800" spc="-1" strike="noStrike">
                <a:solidFill>
                  <a:srgbClr val="000000"/>
                </a:solidFill>
                <a:latin typeface="Arial"/>
              </a:rPr>
              <a:t>.. Επιπλέον λειτουργεί στην συχνότητα των 5</a:t>
            </a:r>
            <a:r>
              <a:rPr b="0" i="1" lang="en-US" sz="1800" spc="-1" strike="noStrike">
                <a:solidFill>
                  <a:srgbClr val="000000"/>
                </a:solidFill>
                <a:latin typeface="Arial"/>
              </a:rPr>
              <a:t>GHz</a:t>
            </a:r>
            <a:r>
              <a:rPr b="0" i="1" lang="el-GR" sz="1800" spc="-1" strike="noStrike">
                <a:solidFill>
                  <a:srgbClr val="000000"/>
                </a:solidFill>
                <a:latin typeface="Arial"/>
              </a:rPr>
              <a:t> η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οποία είναι λιγότερο χρησιμοποιημένη από την συχνότητα των 2,4</a:t>
            </a:r>
            <a:r>
              <a:rPr b="0" i="1" lang="en-US" sz="1800" spc="-1" strike="noStrike">
                <a:solidFill>
                  <a:srgbClr val="000000"/>
                </a:solidFill>
                <a:latin typeface="Arial"/>
              </a:rPr>
              <a:t>GHz</a:t>
            </a:r>
            <a:r>
              <a:rPr b="0" i="1" lang="el-GR" sz="1800" spc="-1" strike="noStrike">
                <a:solidFill>
                  <a:srgbClr val="000000"/>
                </a:solidFill>
                <a:latin typeface="Arial"/>
              </a:rPr>
              <a:t> με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ποτέλεσμα οι παρεμβολές να είναι πολύ λιγότερες. Οι ταχύτητες που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οσφέρει είναι έως 54</a:t>
            </a:r>
            <a:r>
              <a:rPr b="0" i="1" lang="en-US" sz="1800" spc="-1" strike="noStrike">
                <a:solidFill>
                  <a:srgbClr val="000000"/>
                </a:solidFill>
                <a:latin typeface="Arial"/>
              </a:rPr>
              <a:t>Mbps</a:t>
            </a:r>
            <a:r>
              <a:rPr b="0" i="1" lang="el-GR" sz="1800" spc="-1" strike="noStrike">
                <a:solidFill>
                  <a:srgbClr val="000000"/>
                </a:solidFill>
                <a:latin typeface="Arial"/>
              </a:rPr>
              <a:t>, όμως το μέγιστο που μπορεί να επιτύχει είναι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χύτητες μεταξύ 20</a:t>
            </a:r>
            <a:r>
              <a:rPr b="0" i="1" lang="en-US" sz="1800" spc="-1" strike="noStrike">
                <a:solidFill>
                  <a:srgbClr val="000000"/>
                </a:solidFill>
                <a:latin typeface="Arial"/>
              </a:rPr>
              <a:t>Mbps</a:t>
            </a:r>
            <a:r>
              <a:rPr b="0" i="1" lang="el-GR" sz="1800" spc="-1" strike="noStrike">
                <a:solidFill>
                  <a:srgbClr val="000000"/>
                </a:solidFill>
                <a:latin typeface="Arial"/>
              </a:rPr>
              <a:t> και 25</a:t>
            </a:r>
            <a:r>
              <a:rPr b="0" i="1" lang="en-US" sz="1800" spc="-1" strike="noStrike">
                <a:solidFill>
                  <a:srgbClr val="000000"/>
                </a:solidFill>
                <a:latin typeface="Arial"/>
              </a:rPr>
              <a:t>Mbps</a:t>
            </a:r>
            <a:r>
              <a:rPr b="0" i="1" lang="el-GR" sz="1800" spc="-1" strike="noStrike">
                <a:solidFill>
                  <a:srgbClr val="000000"/>
                </a:solidFill>
                <a:latin typeface="Arial"/>
              </a:rPr>
              <a:t>(αυτό είναι εφικτό λόγω μιας ανώτερης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εχνικής διαμόρφωσης των ραδιοκυμάτων που λέγεται </a:t>
            </a:r>
            <a:r>
              <a:rPr b="0" i="1" lang="en-US" sz="1800" spc="-1" strike="noStrike">
                <a:solidFill>
                  <a:srgbClr val="000000"/>
                </a:solidFill>
                <a:latin typeface="Arial"/>
              </a:rPr>
              <a:t>OFDM</a:t>
            </a:r>
            <a:r>
              <a:rPr b="0" i="1" lang="el-GR" sz="1800" spc="-1" strike="noStrike">
                <a:solidFill>
                  <a:srgbClr val="000000"/>
                </a:solidFill>
                <a:latin typeface="Arial"/>
              </a:rPr>
              <a:t> (</a:t>
            </a:r>
            <a:r>
              <a:rPr b="0" i="1" lang="en-US" sz="1800" spc="-1" strike="noStrike">
                <a:solidFill>
                  <a:srgbClr val="000000"/>
                </a:solidFill>
                <a:latin typeface="Arial"/>
              </a:rPr>
              <a:t>Orthogonal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quency Division Multiplexing</a:t>
            </a:r>
            <a:r>
              <a:rPr b="0" i="1" lang="el-GR" sz="1800" spc="-1" strike="noStrike">
                <a:solidFill>
                  <a:srgbClr val="000000"/>
                </a:solidFill>
                <a:latin typeface="Arial"/>
              </a:rPr>
              <a:t>). Δυστυχώς επειδή έχει υψηλότερες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ραδιοσυχνότητες μειώνεται κατά πολύ η απόσταση κάλυψης καθώς και η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εισδυτική δύναμη του 802.11</a:t>
            </a:r>
            <a:r>
              <a:rPr b="0" i="1" lang="en-US" sz="1800" spc="-1" strike="noStrike">
                <a:solidFill>
                  <a:srgbClr val="000000"/>
                </a:solidFill>
                <a:latin typeface="Arial"/>
              </a:rPr>
              <a:t>a</a:t>
            </a:r>
            <a:r>
              <a:rPr b="0" i="1" lang="el-GR" sz="1800" spc="-1" strike="noStrike">
                <a:solidFill>
                  <a:srgbClr val="000000"/>
                </a:solidFill>
                <a:latin typeface="Arial"/>
              </a:rPr>
              <a:t>(δηλαδή ενώ μια μετάδοση 802.11</a:t>
            </a:r>
            <a:r>
              <a:rPr b="0" i="1" lang="en-US" sz="1800" spc="-1" strike="noStrike">
                <a:solidFill>
                  <a:srgbClr val="000000"/>
                </a:solidFill>
                <a:latin typeface="Arial"/>
              </a:rPr>
              <a:t>b</a:t>
            </a:r>
            <a:r>
              <a:rPr b="0" i="1" lang="el-GR" sz="1800" spc="-1" strike="noStrike">
                <a:solidFill>
                  <a:srgbClr val="000000"/>
                </a:solidFill>
                <a:latin typeface="Arial"/>
              </a:rPr>
              <a:t> θα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έρναγε έναν τοίχο, μια μετάδοση 802.11</a:t>
            </a:r>
            <a:r>
              <a:rPr b="0" i="1" lang="en-US" sz="1800" spc="-1" strike="noStrike">
                <a:solidFill>
                  <a:srgbClr val="000000"/>
                </a:solidFill>
                <a:latin typeface="Arial"/>
              </a:rPr>
              <a:t>a</a:t>
            </a:r>
            <a:r>
              <a:rPr b="0" i="1" lang="el-GR" sz="1800" spc="-1" strike="noStrike">
                <a:solidFill>
                  <a:srgbClr val="000000"/>
                </a:solidFill>
                <a:latin typeface="Arial"/>
              </a:rPr>
              <a:t> μπορεί να μην τα καταφέρει..</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r>
              <a:rPr b="1" i="1" lang="en-US" sz="4400" spc="-1" strike="noStrike" u="sng">
                <a:solidFill>
                  <a:srgbClr val="000000"/>
                </a:solidFill>
                <a:uFillTx/>
                <a:latin typeface="Arial"/>
              </a:rPr>
              <a:t>(802.11a)</a:t>
            </a:r>
            <a:endParaRPr b="0" lang="en-US" sz="4400" spc="-1" strike="noStrike">
              <a:solidFill>
                <a:srgbClr val="000000"/>
              </a:solidFill>
              <a:latin typeface="Arial"/>
            </a:endParaRPr>
          </a:p>
        </p:txBody>
      </p:sp>
      <p:pic>
        <p:nvPicPr>
          <p:cNvPr id="65" name="Picture 3" descr=""/>
          <p:cNvPicPr/>
          <p:nvPr/>
        </p:nvPicPr>
        <p:blipFill>
          <a:blip r:embed="rId1"/>
          <a:stretch/>
        </p:blipFill>
        <p:spPr>
          <a:xfrm>
            <a:off x="324000" y="1916280"/>
            <a:ext cx="8424720" cy="47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802.11</a:t>
            </a:r>
            <a:r>
              <a:rPr b="1" lang="en-US" sz="1800" spc="-1" strike="noStrike" u="sng">
                <a:solidFill>
                  <a:srgbClr val="000000"/>
                </a:solidFill>
                <a:uFillTx/>
                <a:latin typeface="Arial"/>
              </a:rPr>
              <a:t>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πρότυπο 802.11</a:t>
            </a:r>
            <a:r>
              <a:rPr b="0" lang="en-US" sz="1800" spc="-1" strike="noStrike">
                <a:solidFill>
                  <a:srgbClr val="000000"/>
                </a:solidFill>
                <a:latin typeface="Arial"/>
              </a:rPr>
              <a:t>g</a:t>
            </a:r>
            <a:r>
              <a:rPr b="0" lang="el-GR" sz="1800" spc="-1" strike="noStrike">
                <a:solidFill>
                  <a:srgbClr val="000000"/>
                </a:solidFill>
                <a:latin typeface="Arial"/>
              </a:rPr>
              <a:t> θεσπίστηκε από το ινστιτούτο ΙΕΕΕ τον Ιούνιο του 2003.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Λειτουργεί στη συχνότητα των 2,4</a:t>
            </a:r>
            <a:r>
              <a:rPr b="0" lang="en-US" sz="1800" spc="-1" strike="noStrike">
                <a:solidFill>
                  <a:srgbClr val="000000"/>
                </a:solidFill>
                <a:latin typeface="Arial"/>
              </a:rPr>
              <a:t>GHz</a:t>
            </a:r>
            <a:r>
              <a:rPr b="0" lang="el-GR" sz="1800" spc="-1" strike="noStrike">
                <a:solidFill>
                  <a:srgbClr val="000000"/>
                </a:solidFill>
                <a:latin typeface="Arial"/>
              </a:rPr>
              <a:t> και οι ταχύτητες που προσφέρει είν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ως 54</a:t>
            </a:r>
            <a:r>
              <a:rPr b="0" lang="en-US" sz="1800" spc="-1" strike="noStrike">
                <a:solidFill>
                  <a:srgbClr val="000000"/>
                </a:solidFill>
                <a:latin typeface="Arial"/>
              </a:rPr>
              <a:t>Mbps</a:t>
            </a:r>
            <a:r>
              <a:rPr b="0" lang="el-GR" sz="1800" spc="-1" strike="noStrike">
                <a:solidFill>
                  <a:srgbClr val="000000"/>
                </a:solidFill>
                <a:latin typeface="Arial"/>
              </a:rPr>
              <a:t>(όμως επιτυγχάνει μόνο μέχρι 20</a:t>
            </a:r>
            <a:r>
              <a:rPr b="0" lang="en-US" sz="1800" spc="-1" strike="noStrike">
                <a:solidFill>
                  <a:srgbClr val="000000"/>
                </a:solidFill>
                <a:latin typeface="Arial"/>
              </a:rPr>
              <a:t>Mbps</a:t>
            </a:r>
            <a:r>
              <a:rPr b="0" lang="el-GR" sz="1800" spc="-1" strike="noStrike">
                <a:solidFill>
                  <a:srgbClr val="000000"/>
                </a:solidFill>
                <a:latin typeface="Arial"/>
              </a:rPr>
              <a:t> με 30</a:t>
            </a:r>
            <a:r>
              <a:rPr b="0" lang="en-US" sz="1800" spc="-1" strike="noStrike">
                <a:solidFill>
                  <a:srgbClr val="000000"/>
                </a:solidFill>
                <a:latin typeface="Arial"/>
              </a:rPr>
              <a:t>Mbps</a:t>
            </a:r>
            <a:r>
              <a:rPr b="0" lang="el-GR" sz="1800" spc="-1" strike="noStrike">
                <a:solidFill>
                  <a:srgbClr val="000000"/>
                </a:solidFill>
                <a:latin typeface="Arial"/>
              </a:rPr>
              <a:t>.. Βασίζεται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ολογία </a:t>
            </a:r>
            <a:r>
              <a:rPr b="0" lang="en-US" sz="1800" spc="-1" strike="noStrike">
                <a:solidFill>
                  <a:srgbClr val="000000"/>
                </a:solidFill>
                <a:latin typeface="Arial"/>
              </a:rPr>
              <a:t>Orthogonal Frequency Division Multiplexing</a:t>
            </a:r>
            <a:r>
              <a:rPr b="0" lang="el-GR" sz="1800" spc="-1" strike="noStrike">
                <a:solidFill>
                  <a:srgbClr val="000000"/>
                </a:solidFill>
                <a:latin typeface="Arial"/>
              </a:rPr>
              <a:t> όπως και το πρότυπ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802.11</a:t>
            </a:r>
            <a:r>
              <a:rPr b="0" lang="en-US" sz="1800" spc="-1" strike="noStrike">
                <a:solidFill>
                  <a:srgbClr val="000000"/>
                </a:solidFill>
                <a:latin typeface="Arial"/>
              </a:rPr>
              <a:t>a</a:t>
            </a:r>
            <a:r>
              <a:rPr b="0" lang="el-GR" sz="1800" spc="-1" strike="noStrike">
                <a:solidFill>
                  <a:srgbClr val="000000"/>
                </a:solidFill>
                <a:latin typeface="Arial"/>
              </a:rPr>
              <a:t>. Το πρότυπο αυτό παρουσιάζει  πρόβλημα παρεμβολών. Αν και είν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χετικά νέο, αναμένεται να εξαπλωθεί ταχύτατα τα επόμενα χρόνια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ολογία των ασυρμάτων δικτύων.</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r>
              <a:rPr b="1" i="1" lang="en-US" sz="4400" spc="-1" strike="noStrike" u="sng">
                <a:solidFill>
                  <a:srgbClr val="000000"/>
                </a:solidFill>
                <a:uFillTx/>
                <a:latin typeface="Arial"/>
              </a:rPr>
              <a:t>(802.11g)</a:t>
            </a:r>
            <a:endParaRPr b="0" lang="en-US" sz="4400" spc="-1" strike="noStrike">
              <a:solidFill>
                <a:srgbClr val="000000"/>
              </a:solidFill>
              <a:latin typeface="Arial"/>
            </a:endParaRPr>
          </a:p>
        </p:txBody>
      </p:sp>
      <p:pic>
        <p:nvPicPr>
          <p:cNvPr id="69" name="Picture 2" descr=""/>
          <p:cNvPicPr/>
          <p:nvPr/>
        </p:nvPicPr>
        <p:blipFill>
          <a:blip r:embed="rId1"/>
          <a:stretch/>
        </p:blipFill>
        <p:spPr>
          <a:xfrm>
            <a:off x="395280" y="1989000"/>
            <a:ext cx="842472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SS, Independent Basic Service Set </a:t>
            </a:r>
            <a:r>
              <a:rPr b="1" lang="el-GR" sz="1800" spc="-1" strike="noStrike">
                <a:solidFill>
                  <a:srgbClr val="000000"/>
                </a:solidFill>
                <a:latin typeface="Arial"/>
              </a:rPr>
              <a:t>ή</a:t>
            </a:r>
            <a:r>
              <a:rPr b="1" lang="en-US" sz="1800" spc="-1" strike="noStrike">
                <a:solidFill>
                  <a:srgbClr val="000000"/>
                </a:solidFill>
                <a:latin typeface="Arial"/>
              </a:rPr>
              <a:t> Peer-to-Peer </a:t>
            </a:r>
            <a:r>
              <a:rPr b="1" lang="el-GR" sz="1800" spc="-1" strike="noStrike">
                <a:solidFill>
                  <a:srgbClr val="000000"/>
                </a:solidFill>
                <a:latin typeface="Arial"/>
              </a:rPr>
              <a:t>ή</a:t>
            </a:r>
            <a:r>
              <a:rPr b="1" lang="en-US" sz="1800" spc="-1" strike="noStrike">
                <a:solidFill>
                  <a:srgbClr val="000000"/>
                </a:solidFill>
                <a:latin typeface="Arial"/>
              </a:rPr>
              <a:t> Ad-Hoc</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η πιο βασική και η πιο απλή τοπολογία ασύρματης δικτύωσης. Οι ασύρματοι σταθμοί επικοινωνούν κατευθείαν μεταξύ τους, ένας προς έναν, χωρίς να υπάρχει κεντρικός σταθμός. Οι σταθμοί είναι ισότιμοι μεταξύ τους. Τα </a:t>
            </a:r>
            <a:r>
              <a:rPr b="0" lang="en-US" sz="1800" spc="-1" strike="noStrike">
                <a:solidFill>
                  <a:srgbClr val="000000"/>
                </a:solidFill>
                <a:latin typeface="Arial"/>
              </a:rPr>
              <a:t>Ad</a:t>
            </a:r>
            <a:r>
              <a:rPr b="0" lang="el-GR" sz="1800" spc="-1" strike="noStrike">
                <a:solidFill>
                  <a:srgbClr val="000000"/>
                </a:solidFill>
                <a:latin typeface="Arial"/>
              </a:rPr>
              <a:t>-</a:t>
            </a:r>
            <a:r>
              <a:rPr b="0" lang="en-US" sz="1800" spc="-1" strike="noStrike">
                <a:solidFill>
                  <a:srgbClr val="000000"/>
                </a:solidFill>
                <a:latin typeface="Arial"/>
              </a:rPr>
              <a:t>Hoc</a:t>
            </a:r>
            <a:r>
              <a:rPr b="0" lang="el-GR" sz="1800" spc="-1" strike="noStrike">
                <a:solidFill>
                  <a:srgbClr val="000000"/>
                </a:solidFill>
                <a:latin typeface="Arial"/>
              </a:rPr>
              <a:t> είναι δίκτυα αποτελούμενα από κινητούς ασύρματους κόμβους, υπολογιστικές συσκευές (φορητούς υπολογιστές, υπολογιστές χειρός, κινητά τηλέφωνα κ.τ.λ.), οι οποίοι έχουν δυνατότητα για ασύρματη μετάδοση και λήψη δεδομένων. Βασικός περιορισμός είναι ότι θα πρέπει προκειμένου να γίνει επικοινωνία μεταξύ δύο σταθμών θα πρέπει να είναι ο ένας εντός της εμβέλειας του άλλου. </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www.ceid.upatras.gr/faculty/alexiou/eis_sys/notes/YLIKO_PARADOSEWN/09_wlan+.pdf</a:t>
            </a:r>
            <a:r>
              <a:rPr b="0" lang="el-GR" sz="1200" spc="-1" strike="noStrike">
                <a:solidFill>
                  <a:srgbClr val="000000"/>
                </a:solidFill>
                <a:latin typeface="Arial"/>
              </a:rPr>
              <a:t>, </a:t>
            </a:r>
            <a:r>
              <a:rPr b="0" lang="el-GR" sz="1200" spc="-1" strike="noStrike" u="sng">
                <a:solidFill>
                  <a:srgbClr val="009999"/>
                </a:solidFill>
                <a:uFillTx/>
                <a:latin typeface="Arial"/>
                <a:hlinkClick r:id="rId2"/>
              </a:rPr>
              <a: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
          <p:cNvPicPr/>
          <p:nvPr/>
        </p:nvPicPr>
        <p:blipFill>
          <a:blip r:embed="rId1"/>
          <a:stretch/>
        </p:blipFill>
        <p:spPr>
          <a:xfrm>
            <a:off x="4211640" y="1844640"/>
            <a:ext cx="4932360" cy="4105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4" name=""/>
          <p:cNvSpPr txBox="1"/>
          <p:nvPr/>
        </p:nvSpPr>
        <p:spPr>
          <a:xfrm>
            <a:off x="178920" y="1773360"/>
            <a:ext cx="403884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u="sng">
                <a:solidFill>
                  <a:srgbClr val="000000"/>
                </a:solidFill>
                <a:uFillTx/>
                <a:latin typeface="Arial"/>
              </a:rPr>
              <a:t>Χαρακτηριστικά:</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υναμική τοπολογί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τερογενές δίκτυο (αποτελείται από διαφορετικές συσκευέ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κόμβοι μπορεί να διαφέρουν μεταξύ του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ορισμένη ενέργει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εριορισμένη ασφάλεια</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2"/>
              </a:rPr>
              <a:t>http://www.ceid.upatras.gr/faculty/alexiou/eis_sys/notes/YLIKO_PARADOSEWN/09_wlan+.pdf</a:t>
            </a:r>
            <a:r>
              <a:rPr b="0" lang="el-GR" sz="1200" spc="-1" strike="noStrike">
                <a:solidFill>
                  <a:srgbClr val="000000"/>
                </a:solidFill>
                <a:latin typeface="Arial"/>
              </a:rPr>
              <a:t>, </a:t>
            </a:r>
            <a:r>
              <a:rPr b="0" lang="el-GR" sz="1200" spc="-1" strike="noStrike" u="sng">
                <a:solidFill>
                  <a:srgbClr val="009999"/>
                </a:solidFill>
                <a:uFillTx/>
                <a:latin typeface="Arial"/>
                <a:hlinkClick r:id="rId3"/>
              </a:rPr>
              <a:t>http://www.google.gr/url?sa=t&amp;rct=j&amp;q=&amp;esrc=s&amp;source=web&amp;cd=5&amp;ved=0CEEQFjAE&amp;url=http%3A%2F%2Fwww.ebusinessforum.gr%2Fengine%2Findex.php%3Fop%3Dmodload%26modname%3DDownloads%26action%3Ddownloadsviewfile%26ctn%3D1105%26language%3Del&amp;ei=hAp7T5XIBM7D8QO63sWnCA&amp;usg=AFQjCNH9OdJrKaJMBlsbOO8H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Infrastructure Mo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μια πιο σύνθετη τοπολογία ασύρματης δικτύωσης. Σε αυτήν το ασύρμα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ίκτυο έχει μια κυψελοειδή μορφή, αποτελούμενο από έναν αριθμό απ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υψέλες. Σε κάθε κυψέλη υπάρχει ένας σημείο πρόσβασης (AP, Access Poin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ι ένας αριθμός από ασύρματους σταθμούς, οι οποίοι εξυπηρετούνται από 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ημείο πρόσβασης και γι’ αυτό ονομάζονται και πελάτες. Η κυψέλη ονομάζετ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ύμφωνα με την ορολογία του προτύπου BSS (Basic Service Set), αποτελείτ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 έναν αριθμό ασύρματων σταθμών και ένα σημείο πρόσβασης (AP). T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BSS είναι το βασικό δομικό στοιχείο ενός ασύρματου δικτύου.</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www.ceid.upatras.gr/faculty/alexiou/eis_sys/notes/YLIKO_PARADOSEWN/09_wlan+.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www.google.gr/url?sa=t&amp;rct=j&amp;q=&amp;esrc=s&amp;source=web&amp;cd=5&amp;ved=0CEEQFjAE&amp;url=http%3A%2F%2Fwww.ebu</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3"/>
              </a:rPr>
              <a:t>sinessforum.gr%2Fengine%2Findex.php%3Fop%3Dmodload%26modname%3DDownloads%26action%3Ddownloadsv</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4"/>
              </a:rPr>
              <a:t>iewfile%26ctn%3D1105%26language%3Del&amp;ei=hAp7T5XIBM7D8QO63sWnCA&amp;usg=AFQjCNH9OdJrKaJMBlsbOO8H</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5"/>
              </a:rPr>
              <a:t>RKzAU41icg&amp;sig2=Z4rwM9k8XITFllGbU2GIxQ</a:t>
            </a:r>
            <a:r>
              <a:rPr b="0"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u="sng">
                <a:solidFill>
                  <a:srgbClr val="000000"/>
                </a:solidFill>
                <a:uFillTx/>
                <a:latin typeface="Arial"/>
              </a:rPr>
              <a:t>Τοπολογίες Ασύρματων Δικτύων</a:t>
            </a:r>
            <a:endParaRPr b="0" lang="en-US" sz="4400" spc="-1" strike="noStrike">
              <a:solidFill>
                <a:srgbClr val="000000"/>
              </a:solidFill>
              <a:latin typeface="Arial"/>
            </a:endParaRPr>
          </a:p>
        </p:txBody>
      </p:sp>
      <p:pic>
        <p:nvPicPr>
          <p:cNvPr id="78" name="Picture 2" descr=""/>
          <p:cNvPicPr/>
          <p:nvPr/>
        </p:nvPicPr>
        <p:blipFill>
          <a:blip r:embed="rId1"/>
          <a:stretch/>
        </p:blipFill>
        <p:spPr>
          <a:xfrm>
            <a:off x="457200" y="2050920"/>
            <a:ext cx="8291520" cy="389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Πως δουλεύει ένα ασύρματο δίκτυο;</a:t>
            </a:r>
            <a:endParaRPr b="0" lang="en-US" sz="3200" spc="-1" strike="noStrike">
              <a:solidFill>
                <a:srgbClr val="000000"/>
              </a:solidFill>
              <a:latin typeface="Arial"/>
            </a:endParaRPr>
          </a:p>
        </p:txBody>
      </p:sp>
      <p:sp>
        <p:nvSpPr>
          <p:cNvPr id="80"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Περιγραφή εξοπλισμού Ασύρματων Δικτύων</a:t>
            </a:r>
            <a:r>
              <a:rPr b="0" lang="el-GR" sz="4000" spc="-1" strike="noStrike">
                <a:solidFill>
                  <a:srgbClr val="000000"/>
                </a:solidFill>
                <a:latin typeface="Arial"/>
              </a:rPr>
              <a:t> </a:t>
            </a:r>
            <a:endParaRPr b="0" lang="en-US" sz="4000" spc="-1" strike="noStrike">
              <a:solidFill>
                <a:srgbClr val="000000"/>
              </a:solidFill>
              <a:latin typeface="Arial"/>
            </a:endParaRPr>
          </a:p>
        </p:txBody>
      </p:sp>
      <p:sp>
        <p:nvSpPr>
          <p:cNvPr id="82" name=""/>
          <p:cNvSpPr txBox="1"/>
          <p:nvPr/>
        </p:nvSpPr>
        <p:spPr>
          <a:xfrm>
            <a:off x="468360" y="14130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να περιγράφει η λειτουργία του δικτύου πρέπει πρώτα γνωρίζουμε την δομή του, την χρήση του εξοπλισμού αλλά και τους περιορισμούς του λόγω των τεχνολογικών χαρακτηριστικών του και λόγο της νομοθεσίας που υπάρχει. Γι’ αυτό περιγράφεται πρώτα ο επιμέρους εξοπλισμός που χρησιμοποιείται, οι ιδιότητες του, και στην συνέχεια τα πρωτόκολλα επικοινωνίας και το πώς αυτά αξιοποιούνται. Στην ασύρματη επικοινωνία οτιδήποτε κι αν θέλουμε να κάνουμε, όποια τοπολογία κι αν έχουμε και ότι κι αν θέλουμε να μεταφέρουμε υπάρχουν κάποιες βασικές αρχές λειτουργίας και ένας απαραίτητος εξοπλισμός ή αλλιώς ένα κεραιοσύστημ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6" descr=""/>
          <p:cNvPicPr/>
          <p:nvPr/>
        </p:nvPicPr>
        <p:blipFill>
          <a:blip r:embed="rId1"/>
          <a:stretch/>
        </p:blipFill>
        <p:spPr>
          <a:xfrm>
            <a:off x="1979640" y="4005360"/>
            <a:ext cx="530388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ι είναι τα Ασύρματα Δίκτυα;</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 ασύρματα δίκτυα είναι καταρχήν αυτό ακριβώς που ακούγεται Υπολογιστές που συνδέονται ασύρματα δημιουργώντας ένα δίκτυο..Ένα ασύρματο τοπικό δίκτυο (LAN) επιτρέπει τη σύνδεση υπολογιστών χωρίς καλώδια. Είναι ένα τηλεπικοινωνιακό δίκτυο, συνήθως τηλεφωνικό ή υπολογιστικό, το οποίο χρησιμοποιεί ραδιοκύματα ως φορείς πληροφορίας. Τα ασύρματα δίκτυα είναι καταρχήν αυτό ακριβώς που ακούγεται Υπολογιστές που συνδέονται ασύρματα δημιουργώντας ένα δίκτυο..Ένα ασύρματο τοπικό δίκτυο (LAN) επιτρέπει τη σύνδεση υπολογιστών χωρίς καλώδια. Ένα ασύρματο δίκτυο είναι ένα τηλεπικοινωνιακό δίκτυο, συνήθως τηλεφωνικό ή υπολογιστικό, το οποίο χρησιμοποιεί ραδιοκύματα ως φορείς πληροφορία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users.sch.gr/angnikolou/tech_v/wireless.htm</a:t>
            </a:r>
            <a:r>
              <a:rPr b="0" i="1" lang="el-GR" sz="1200" spc="-1" strike="noStrike">
                <a:solidFill>
                  <a:srgbClr val="000000"/>
                </a:solidFill>
                <a:latin typeface="Arial"/>
              </a:rPr>
              <a:t>, </a:t>
            </a:r>
            <a:r>
              <a:rPr b="0" lang="el-GR" sz="1200" spc="-1" strike="noStrike" u="sng">
                <a:solidFill>
                  <a:srgbClr val="009999"/>
                </a:solidFill>
                <a:uFillTx/>
                <a:latin typeface="Arial"/>
                <a:hlinkClick r:id="rId2"/>
              </a:rPr>
              <a:t>http://www.cisco.com/web/GR/solutions/smb/products/wireless/wireless_primer.html</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ΑΠΑΡΑΙΤΗΤΟΣ ΕΞΟΠΛΙΣΜΟΣ</a:t>
            </a:r>
            <a:endParaRPr b="0" lang="en-US" sz="3200" spc="-1" strike="noStrike">
              <a:solidFill>
                <a:srgbClr val="000000"/>
              </a:solidFill>
              <a:latin typeface="Arial"/>
            </a:endParaRPr>
          </a:p>
        </p:txBody>
      </p:sp>
      <p:sp>
        <p:nvSpPr>
          <p:cNvPr id="85" name=""/>
          <p:cNvSpPr txBox="1"/>
          <p:nvPr/>
        </p:nvSpPr>
        <p:spPr>
          <a:xfrm>
            <a:off x="468360" y="162864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1. -Μια η και περισσότερες ανάλογα την εκπομπή, κεραίες εκπομπής σήματο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 -Μια γραμμή μεταφοράς του σήματος από τον πομπό / δέκτη προς την κεραί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3. -Ένα πρωτόκολλο επικοινωνία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4. -Και φυσικά ένας πομπός και αντίστοιχα ένας δέκτης από την άλλη,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μετάδοση είναι ψηφιακή στην περίπτωση μας επομένως χρειαζόμαστε ένα ανάλογο hardware που να είναι κάτι παραπάνω από ένας απλός διαμορφωτής – απόδιαμορφωτής. Ένας embedded router ή ένας υπολογιστής με ανάλογες δυνατότητες μέσω του λειτουργικού του συστήματος είναι η λύση στο πρόβλημ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Κεραία</a:t>
            </a:r>
            <a:endParaRPr b="0" lang="en-US" sz="3200" spc="-1" strike="noStrike">
              <a:solidFill>
                <a:srgbClr val="000000"/>
              </a:solidFill>
              <a:latin typeface="Arial"/>
            </a:endParaRPr>
          </a:p>
        </p:txBody>
      </p:sp>
      <p:sp>
        <p:nvSpPr>
          <p:cNvPr id="87"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ρόλος της είναι να μετατρέπει τα ηλεκτρικά σήματα σε ραδιοκύματα στην περίπτωση της εκπομπής και το αντίστροφο στην κατεύθυνση της λήψη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6" descr=""/>
          <p:cNvPicPr/>
          <p:nvPr/>
        </p:nvPicPr>
        <p:blipFill>
          <a:blip r:embed="rId1"/>
          <a:stretch/>
        </p:blipFill>
        <p:spPr>
          <a:xfrm>
            <a:off x="2771640" y="2276640"/>
            <a:ext cx="3262320" cy="388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Ασύρματη συσκευή</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ασύρματες συσκευές καταρχήν χωρίζονται ανάλογα με τα πρότυπα που υλοποιούν. Υπάρχουν συσκευές για κάθε ένα από τα πρότυπα 802.11b, 802.11g, 802.11a, ενώ ολοένα και πιο προσιτές και δημοφιλείς γίνονται οι συσκευές που υλοποιούν περισσότερα του ενός πρότυπα (b/g, a/b, a/g, b/g/a). Κατανοώντας τις ιδιαιτερότητες του κάθε προτύπου επιλέγουμε την κατάλληλη λύση για την εφαρμογή μας.</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4" descr="wifi"/>
          <p:cNvPicPr/>
          <p:nvPr/>
        </p:nvPicPr>
        <p:blipFill>
          <a:blip r:embed="rId1"/>
          <a:stretch/>
        </p:blipFill>
        <p:spPr>
          <a:xfrm>
            <a:off x="2987640" y="3500280"/>
            <a:ext cx="2857680" cy="242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Τι είναι το WLAN;</a:t>
            </a:r>
            <a:endParaRPr b="0" lang="en-US" sz="3200" spc="-1" strike="noStrike">
              <a:solidFill>
                <a:srgbClr val="000000"/>
              </a:solidFill>
              <a:latin typeface="Arial"/>
            </a:endParaRPr>
          </a:p>
        </p:txBody>
      </p:sp>
      <p:sp>
        <p:nvSpPr>
          <p:cNvPr id="93" name=""/>
          <p:cNvSpPr txBox="1"/>
          <p:nvPr/>
        </p:nvSpPr>
        <p:spPr>
          <a:xfrm>
            <a:off x="395280" y="1557360"/>
            <a:ext cx="44640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LAN ή αλλιώς wireless local area network, είναι εάν ασύρματο δίκτυο το οποίο συνεργάζεται με άλλες ασύρματες συσκευές. 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hub/ switch/ router. Σε αυτό το ήδη υπάρχων δίκτυο μπορεί να γίνει αναβάθμιση για να χρησιμοποιηθεί ένα ασύρματο σημείο (access point). Μπορεί παρόλα αυτά να υπάρξει και ένα ασύρματο δίκτυο εντελώς ανεξάρτητο από το υπόλοιπο δίκτυο μας.</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6" descr="add_3_favorit"/>
          <p:cNvPicPr/>
          <p:nvPr/>
        </p:nvPicPr>
        <p:blipFill>
          <a:blip r:embed="rId1"/>
          <a:stretch/>
        </p:blipFill>
        <p:spPr>
          <a:xfrm>
            <a:off x="5148360" y="2205000"/>
            <a:ext cx="3600360" cy="28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5. Τι είναι το Wi-Fi;</a:t>
            </a:r>
            <a:endParaRPr b="0" lang="en-US" sz="3200" spc="-1" strike="noStrike">
              <a:solidFill>
                <a:srgbClr val="000000"/>
              </a:solidFill>
              <a:latin typeface="Arial"/>
            </a:endParaRPr>
          </a:p>
        </p:txBody>
      </p:sp>
      <p:sp>
        <p:nvSpPr>
          <p:cNvPr id="96" name=""/>
          <p:cNvSpPr txBox="1"/>
          <p:nvPr/>
        </p:nvSpPr>
        <p:spPr>
          <a:xfrm>
            <a:off x="468360" y="1628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Fi είναι ένα πιστοποιημένο πρόγραμμα καθιερωμένο από τον οργανισμό WiFi Alliance ο οποίος και εξασφαλίζει την σωστή επικοινωνία μεταξύ ασύρματων συσκευών.</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6" descr="ec1bb__wifi_logo_3d_recortado"/>
          <p:cNvPicPr/>
          <p:nvPr/>
        </p:nvPicPr>
        <p:blipFill>
          <a:blip r:embed="rId1"/>
          <a:stretch/>
        </p:blipFill>
        <p:spPr>
          <a:xfrm>
            <a:off x="1763640" y="2565360"/>
            <a:ext cx="5184720" cy="339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u="sng">
                <a:solidFill>
                  <a:srgbClr val="000000"/>
                </a:solidFill>
                <a:uFillTx/>
                <a:latin typeface="Arial"/>
              </a:rPr>
              <a:t>Τύποι WiFi</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ωτόκολλο δικτύου Μέγιστη Ταχύτητα Μέσος όρος ταχύτητας Μέγιστη απόσταση 802.11α 54Mbps 27Mbps 12m εσωτερικά, 30m εξωτερικούς χώρους (ευθεία) 802.11b 11Mbps 4.5Mbps 30m εσωτερικά, 120m μεξωτερικούς χώρους (ευθεία) 802.11g 54Mbps 7-16Mbps 30m εσωτερικά, 120m μεξωτερικούς χώρους (ευθεί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700" spc="-1" strike="noStrike">
                <a:solidFill>
                  <a:srgbClr val="000000"/>
                </a:solidFill>
                <a:latin typeface="Arial"/>
              </a:rPr>
              <a:t>ΕΡΓΑΣΙΑ ΑΣΥΡΜΑΤΑ ΔΙΚΤΥΑ  ΟΜΑΔΑ  3</a:t>
            </a:r>
            <a:br>
              <a:rPr sz="4700"/>
            </a:br>
            <a:r>
              <a:rPr b="0" lang="el-GR" sz="4700" spc="-1" strike="noStrike">
                <a:solidFill>
                  <a:srgbClr val="000000"/>
                </a:solidFill>
                <a:latin typeface="Arial"/>
              </a:rPr>
              <a:t> ΓΙΩΡΓΟΣ  ΧΑΪΔΕΜΕΝΟΣ  ΒΠ</a:t>
            </a:r>
            <a:endParaRPr b="0" lang="en-US" sz="4700" spc="-1" strike="noStrike">
              <a:solidFill>
                <a:srgbClr val="000000"/>
              </a:solidFill>
              <a:latin typeface="Arial"/>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 </a:t>
            </a:r>
            <a:r>
              <a:rPr b="0" lang="en-US" sz="3200" spc="-1" strike="noStrike">
                <a:solidFill>
                  <a:srgbClr val="000000"/>
                </a:solidFill>
                <a:latin typeface="Arial"/>
              </a:rPr>
              <a:t>WIMAX;</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l-GR" sz="4400" spc="-1" strike="noStrike">
                <a:solidFill>
                  <a:srgbClr val="000000"/>
                </a:solidFill>
                <a:latin typeface="Comic Sans MS"/>
              </a:rPr>
              <a:t>ΔΙΚΤΥΟ </a:t>
            </a:r>
            <a:r>
              <a:rPr b="1" lang="en-US" sz="4400" spc="-1" strike="noStrike">
                <a:solidFill>
                  <a:srgbClr val="000000"/>
                </a:solidFill>
                <a:latin typeface="Comic Sans MS"/>
              </a:rPr>
              <a:t>WIMAX</a:t>
            </a:r>
            <a:endParaRPr b="0" lang="en-US" sz="4400" spc="-1" strike="noStrike">
              <a:solidFill>
                <a:srgbClr val="000000"/>
              </a:solidFill>
              <a:latin typeface="Arial"/>
            </a:endParaRPr>
          </a:p>
        </p:txBody>
      </p:sp>
      <p:pic>
        <p:nvPicPr>
          <p:cNvPr id="103" name="Εικόνα 5" descr=""/>
          <p:cNvPicPr/>
          <p:nvPr/>
        </p:nvPicPr>
        <p:blipFill>
          <a:blip r:embed="rId1"/>
          <a:stretch/>
        </p:blipFill>
        <p:spPr>
          <a:xfrm>
            <a:off x="468360" y="1557360"/>
            <a:ext cx="8136000" cy="496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55640" y="260280"/>
            <a:ext cx="7693200" cy="6337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2003 η ΙΕΕΕ υιοθέτησε το πρότυπο 802.16 γνωστό και σαν WiMΑΧ, ώστε να ικανοποιήσει τις απαιτήσεις για ασύρματη πρόσβαση (με σταθερούς ρυθμούς) ευρείας ζώνης. Όπως συμβαίνει με τα πρότυπα της σειράς 802 για ασύρματα τοπικά δίκτυα, έτσι και το 802.16 καθορίζει μια οικογένεια προτύπων με επιλογές για συγκεκριμένες ρυθμίσεις. Το </a:t>
            </a:r>
            <a:r>
              <a:rPr b="0" lang="en-US" sz="1900" spc="-1" strike="noStrike">
                <a:solidFill>
                  <a:srgbClr val="000000"/>
                </a:solidFill>
                <a:latin typeface="Arial"/>
              </a:rPr>
              <a:t>WiMax</a:t>
            </a:r>
            <a:r>
              <a:rPr b="0" lang="el-GR" sz="1900" spc="-1" strike="noStrike">
                <a:solidFill>
                  <a:srgbClr val="000000"/>
                </a:solidFill>
                <a:latin typeface="Arial"/>
              </a:rPr>
              <a:t> είναι μια νέα τεχνολογία, ένα βήμα μπροστά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που παρέχει ασύρματη ευρυζωνική πρόσβαση υψηλών ταχυτήτων σε μεγάλες αποστάσεις</a:t>
            </a:r>
            <a:r>
              <a:rPr b="1" lang="el-GR" sz="1900" spc="-1" strike="noStrike">
                <a:solidFill>
                  <a:srgbClr val="000000"/>
                </a:solidFill>
                <a:latin typeface="Arial"/>
              </a:rPr>
              <a:t> . Συγκεκριμένα WiMAX</a:t>
            </a:r>
            <a:r>
              <a:rPr b="0" lang="el-GR" sz="1900" spc="-1" strike="noStrike">
                <a:solidFill>
                  <a:srgbClr val="000000"/>
                </a:solidFill>
                <a:latin typeface="Arial"/>
              </a:rPr>
              <a:t> αποκαλείται η τεχνολογία ασύρματης δικτύωσης η οποία λειτουργεί με παρεμφερή τρόπο με το </a:t>
            </a:r>
            <a:r>
              <a:rPr b="0" lang="el-GR" sz="1900" spc="-1" strike="noStrike" u="sng">
                <a:solidFill>
                  <a:srgbClr val="009999"/>
                </a:solidFill>
                <a:uFillTx/>
                <a:latin typeface="Arial"/>
                <a:hlinkClick r:id="rId1"/>
              </a:rPr>
              <a:t>Wi-Fi</a:t>
            </a:r>
            <a:r>
              <a:rPr b="0" lang="el-GR" sz="1900" spc="-1" strike="noStrike">
                <a:solidFill>
                  <a:srgbClr val="000000"/>
                </a:solidFill>
                <a:latin typeface="Arial"/>
              </a:rPr>
              <a:t>, ωστόσο με πολύ μεγαλύτερη εμβέλεια. Συγκεκριμένα, ενώ το </a:t>
            </a:r>
            <a:r>
              <a:rPr b="0" lang="el-GR" sz="1900" spc="-1" strike="noStrike" u="sng">
                <a:solidFill>
                  <a:srgbClr val="009999"/>
                </a:solidFill>
                <a:uFillTx/>
                <a:latin typeface="Arial"/>
                <a:hlinkClick r:id="rId2"/>
              </a:rPr>
              <a:t>Wi-Fi</a:t>
            </a:r>
            <a:r>
              <a:rPr b="0" lang="el-GR" sz="1900" spc="-1" strike="noStrike">
                <a:solidFill>
                  <a:srgbClr val="000000"/>
                </a:solidFill>
                <a:latin typeface="Arial"/>
              </a:rPr>
              <a:t> εξασφαλίζει εμβέλεια επικοινωνίας μέχρι 100 μέτρα, το WiMax φθάνει τα 35 χιλιόμετρα ή και παραπάνω.</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ίναι σαφώς καλύτερο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και μπορεί να καλύψει μεγαλύτερες αποστάσεις μετάδοσης. Πλέον ένας φορητός υπολογιστής μπορεί να συνδυάζει τις ιδιότητες κινητού τηλεφώνου και ραδιοφωνικού πομπού: θα πιάνει «παντού» και θα εξασφαλίζει επικοινωνία με και από κάθε γωνιά του πλανήτη.</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Αρχικά, το όραμα των υπερασπιστών του </a:t>
            </a:r>
            <a:r>
              <a:rPr b="0" lang="en-US" sz="1900" spc="-1" strike="noStrike">
                <a:solidFill>
                  <a:srgbClr val="000000"/>
                </a:solidFill>
                <a:latin typeface="Arial"/>
              </a:rPr>
              <a:t>WiMax</a:t>
            </a:r>
            <a:r>
              <a:rPr b="0" lang="el-GR" sz="1900" spc="-1" strike="noStrike">
                <a:solidFill>
                  <a:srgbClr val="000000"/>
                </a:solidFill>
                <a:latin typeface="Arial"/>
              </a:rPr>
              <a:t>, όπως φαίνεται και στο παρακάτω σχήμα, ήταν ότι οι μεταφορείς θα εγκαταστήσουν πομποδέκτες στεγών ως σταθμούς βάσεων συνδεδεμένους με το Διαδίκτυο. Κάθε ένας σταθμός βάσεων θα μπορούσε να χρησιμοποιήσει την τεχνολογία </a:t>
            </a:r>
            <a:r>
              <a:rPr b="0" lang="en-US" sz="1900" spc="-1" strike="noStrike">
                <a:solidFill>
                  <a:srgbClr val="000000"/>
                </a:solidFill>
                <a:latin typeface="Arial"/>
              </a:rPr>
              <a:t>WiMax</a:t>
            </a:r>
            <a:r>
              <a:rPr b="0" lang="el-GR" sz="1900" spc="-1" strike="noStrike">
                <a:solidFill>
                  <a:srgbClr val="000000"/>
                </a:solidFill>
                <a:latin typeface="Arial"/>
              </a:rPr>
              <a:t> για να στείλει και να λάβει δεδομένα από και προς τις σταθερές κεραίες συνδρομητών, που είναι τοποθετημένες στις στέγες ή στους εξωτερικούς τοίχους.</a:t>
            </a:r>
            <a:endParaRPr b="0" lang="en-US" sz="19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259920"/>
            <a:ext cx="8229600" cy="6597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τίθετα με άλλα ασύρματα δίκτυα, τα οποία επιτρέπουν μεταδόσεις μόνο με ένα φάσμα συχνότητας, το </a:t>
            </a:r>
            <a:r>
              <a:rPr b="0" lang="en-US" sz="2000" spc="-1" strike="noStrike">
                <a:solidFill>
                  <a:srgbClr val="000000"/>
                </a:solidFill>
                <a:latin typeface="Arial"/>
              </a:rPr>
              <a:t>WiMax</a:t>
            </a:r>
            <a:r>
              <a:rPr b="0" lang="el-GR" sz="2000" spc="-1" strike="noStrike">
                <a:solidFill>
                  <a:srgbClr val="000000"/>
                </a:solidFill>
                <a:latin typeface="Arial"/>
              </a:rPr>
              <a:t> επιτρέπει τη μεταφορά δεδομένων με πολλαπλά, ευρέα φάσματα συχνότητας. Αυτό βοηθάει πάρα πολύ, γιατί το να υπάρχουν πολλά φάσματα, μεγιστοποιεί τη δυνατότητα της τεχνολογίας να μεταδώσει πέρα από τις   συχνότητες άλλων ασύρματων εφαρμογώ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n-US" sz="2000" spc="-1" strike="noStrike">
                <a:solidFill>
                  <a:srgbClr val="000000"/>
                </a:solidFill>
                <a:latin typeface="Arial"/>
              </a:rPr>
              <a:t>WiMax</a:t>
            </a:r>
            <a:r>
              <a:rPr b="0" lang="el-GR" sz="2000" spc="-1" strike="noStrike">
                <a:solidFill>
                  <a:srgbClr val="000000"/>
                </a:solidFill>
                <a:latin typeface="Arial"/>
              </a:rPr>
              <a:t> αναμένεται να επιτρέψει αληθινές ευρυζωνικές ταχύτητες πέρα από τα ασύρματα δίκτυα με κόστος που θα καταστήσει ενεργή την υιοθέτηση μαζικής αγοράς. Το </a:t>
            </a:r>
            <a:r>
              <a:rPr b="0" lang="en-US" sz="2000" spc="-1" strike="noStrike">
                <a:solidFill>
                  <a:srgbClr val="000000"/>
                </a:solidFill>
                <a:latin typeface="Arial"/>
              </a:rPr>
              <a:t>WiMax</a:t>
            </a:r>
            <a:r>
              <a:rPr b="0" lang="el-GR" sz="2000" spc="-1" strike="noStrike">
                <a:solidFill>
                  <a:srgbClr val="000000"/>
                </a:solidFill>
                <a:latin typeface="Arial"/>
              </a:rPr>
              <a:t> είναι το μόνο ασύρματο πρότυπο που σήμερα έχει τη δυνατότητα να παραδώσει τις αληθινές ευρυζωνικές ταχύτητες και βοηθάει στο να γίνει το όραμα της κυρίαρχης συνδετικότητας μια πραγματικότητα.</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9999"/>
                </a:solidFill>
                <a:uFillTx/>
                <a:latin typeface="Arial"/>
              </a:rPr>
              <a:t>http://bestbuydoc.com/el/doc-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δοκιμαστική εγκατάσταση σταθμών WiMAX έχει ξεκινήσει ήδη και αναμένεται η επέκταση των δοκιμών και της διάδοση της τεχνολογίας. Οι αισιόδοξοι κάνουν αναφορές για το 2006 και πέρα αλλά φαίνεται πως θα χρειαστούν τουλάχιστον 2 χρόνια μέχρι την εκτεταμένη διάδοση του standard και το άνοιγμα στην αγορ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μελλοντικά laptop (Intel Centrino WiMAX) και πιθανώς τα κινητά τηλέφωνα και PDA θα υποστηρίζουν την τεχνολογία WiMAX βασισμένα σε συμβατό με το standard ΙΕΕΕ 802.16e hardware, όπως ακριβώς συμβαίνει τώρα με το WiFi και το standard 802.11.</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pestaola.gr/wimax-in-plain-greek/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 Εικόνα" descr="Wireless-Network.bmp"/>
          <p:cNvPicPr/>
          <p:nvPr/>
        </p:nvPicPr>
        <p:blipFill>
          <a:blip r:embed="rId1"/>
          <a:stretch/>
        </p:blipFill>
        <p:spPr>
          <a:xfrm>
            <a:off x="-6480" y="-6480"/>
            <a:ext cx="9156960" cy="68709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48" name=""/>
          <p:cNvSpPr txBox="1"/>
          <p:nvPr/>
        </p:nvSpPr>
        <p:spPr>
          <a:xfrm>
            <a:off x="457200" y="1600200"/>
            <a:ext cx="8229600" cy="5068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Γενικά:</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ίναι γεγονός πως η Ελλάδα τα προηγούμενα χρόνια υστερούσε σημαντικά 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εχνολογικό επίπεδο σε σχέση με αρκετές ευρωπαϊκές χώρες. Όταν σε άλλ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κράτη είχαν συνδέσεις ADSL με μικρό κόστος εμείς είχαμε μείνει στάσιμοι στη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ποχή του modem και της dial-up σύνδεσης με ταχύτητες που δε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ξεπερνούσαν τα 64kbps. Η ανάγκη για γρήγορη επικοινωνία οικονομικά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οσιτή και το ελληνικό δαιμόνιο, οδήγησαν στην δημιουργία ενός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ωτότυπου παγκοσμίως ανοικτού και ελευθέρως προσβάσιμου ασύρματου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κτύου υπολογιστών. Η κίνηση αυτή άρχισε να εμφανίζεται ταυτόχρονα 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άφορες πόλεις της Ελλάδος και το αποτέλεσμα σήμερα είναι να υπάρχου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ρκετά μητροπολιτικά ασύρματα δίκτυα σε πολλές πόλεις της Ελλάδο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2"/>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3"/>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578880"/>
            <a:ext cx="8229600" cy="61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107" name="PlaceHolder 2"/>
          <p:cNvSpPr>
            <a:spLocks noGrp="1"/>
          </p:cNvSpPr>
          <p:nvPr>
            <p:ph/>
          </p:nvPr>
        </p:nvSpPr>
        <p:spPr>
          <a:xfrm>
            <a:off x="468360" y="907560"/>
            <a:ext cx="8229600" cy="5510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WiMAX έχει σημαντικά πλεονεκτήματα έναντι των σημερινών ασύρματων και ενσύρματων συνδέσεων:</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Ιδιωτικές εταιρείες θα έχουν τη δυνατότητα να αναπτύξουν ανεξάρτητα ασύρματα δίκτυα τηλεπικοινωνιών και υπηρεσιών </a:t>
            </a:r>
            <a:r>
              <a:rPr b="0" lang="el-GR" sz="1900" spc="-1" strike="noStrike" u="sng">
                <a:solidFill>
                  <a:srgbClr val="009999"/>
                </a:solidFill>
                <a:uFillTx/>
                <a:latin typeface="Arial"/>
                <a:hlinkClick r:id="rId1"/>
              </a:rPr>
              <a:t>Internet</a:t>
            </a:r>
            <a:r>
              <a:rPr b="0" lang="el-GR" sz="1900" spc="-1" strike="noStrike">
                <a:solidFill>
                  <a:srgbClr val="000000"/>
                </a:solidFill>
                <a:latin typeface="Arial"/>
              </a:rPr>
              <a:t>, με πολύ μεγάλη ευκολία, καθώς δεν απαιτείται η εγκατάσταση καλωδίων σε κάθε σημείο της χώρας, αυξάνοντας τον ανταγωνισμό.</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t>
            </a:r>
            <a:r>
              <a:rPr b="0" lang="el-GR" sz="1900" spc="-1" strike="noStrike" u="sng">
                <a:solidFill>
                  <a:srgbClr val="009999"/>
                </a:solidFill>
                <a:uFillTx/>
                <a:latin typeface="Arial"/>
                <a:hlinkClick r:id="rId2"/>
              </a:rPr>
              <a:t>ADSL</a:t>
            </a:r>
            <a:r>
              <a:rPr b="0" lang="el-GR" sz="1900" spc="-1" strike="noStrike">
                <a:solidFill>
                  <a:srgbClr val="000000"/>
                </a:solidFill>
                <a:latin typeface="Arial"/>
              </a:rPr>
              <a:t>, ούτε και με την τεχνολογία Wi-Fi, λόγω της περιορισμένης της εμβέλειας.</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Μετακομίζοντας σε άλλη περιοχή, ο συνδρομητής δεν θα χρειαστεί να κάνει ενεργοποίηση ευρυζωνικής σύνδεσης στον νέο του χώρο, όπως ισχύει για τις γραμμές </a:t>
            </a:r>
            <a:r>
              <a:rPr b="0" lang="el-GR" sz="1900" spc="-1" strike="noStrike" u="sng">
                <a:solidFill>
                  <a:srgbClr val="009999"/>
                </a:solidFill>
                <a:uFillTx/>
                <a:latin typeface="Arial"/>
                <a:hlinkClick r:id="rId3"/>
              </a:rPr>
              <a:t>ADSL</a:t>
            </a:r>
            <a:r>
              <a:rPr b="0" lang="el-GR" sz="1900" spc="-1" strike="noStrike">
                <a:solidFill>
                  <a:srgbClr val="000000"/>
                </a:solidFill>
                <a:latin typeface="Arial"/>
              </a:rPr>
              <a:t>. Αφού θα καλύπτεται από το ασύρματο σήμα του παρόχου υπηρεσιών WiMAX, μπορεί να αρχίσει άμεσα να χρησιμοποιεί τη σύνδεσή του </a:t>
            </a:r>
            <a:endParaRPr b="0" lang="en-US" sz="1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009999"/>
                </a:solidFill>
                <a:uFillTx/>
                <a:latin typeface="Arial"/>
                <a:hlinkClick r:id="rId4"/>
              </a:rPr>
              <a:t>http://el.wikipedia.org/wiki/WiMA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404640"/>
            <a:ext cx="8229600" cy="5726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a:t>
            </a:r>
            <a:r>
              <a:rPr b="0" i="1" lang="el-GR" sz="2400" spc="-1" strike="noStrike">
                <a:solidFill>
                  <a:srgbClr val="000000"/>
                </a:solidFill>
                <a:latin typeface="Arial"/>
              </a:rPr>
              <a:t>βασικά</a:t>
            </a:r>
            <a:r>
              <a:rPr b="0" lang="el-GR" sz="2400" spc="-1" strike="noStrike">
                <a:solidFill>
                  <a:srgbClr val="000000"/>
                </a:solidFill>
                <a:latin typeface="Arial"/>
              </a:rPr>
              <a:t> </a:t>
            </a:r>
            <a:r>
              <a:rPr b="0" i="1" lang="el-GR" sz="2400" spc="-1" strike="noStrike">
                <a:solidFill>
                  <a:srgbClr val="000000"/>
                </a:solidFill>
                <a:latin typeface="Arial"/>
              </a:rPr>
              <a:t>πλεονεκτήματα</a:t>
            </a:r>
            <a:r>
              <a:rPr b="0" lang="el-GR" sz="2400" spc="-1" strike="noStrike">
                <a:solidFill>
                  <a:srgbClr val="000000"/>
                </a:solidFill>
                <a:latin typeface="Arial"/>
              </a:rPr>
              <a:t> των συστημάτων που βασίζονται στο πρότυπο 802.16 είναι τα εξή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γρήγορης παροχής υπηρεσιών ακόμα και σε περιοχές πολύ απομακρυσμένες όπου η εγκατάσταση ενσύρματων δικτύων θα ήταν εξαιρετικά δύσκολ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Αποφυγή μεγάλου κόστους εγκατάσταση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υπέρβασης των φυσικών περιορισμών που υπάρχουν στην ενσύρματη δικτύωσ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οψίζοντας τα παραπάνω θα μπορούσαμε να πούμε ότι το 802.16 συνιστά ένα πολύ ευέλικτο και οικονομικό πρότυπο το οποίο μπορεί να καλύψει τις αδυναμίες της ενσύρματης δικτύωσης και επιπλέον να παρέχει νέες υπηρεσίες και προϊόν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a:t>
            </a:r>
            <a:r>
              <a:rPr b="0" lang="el-GR" sz="2000" spc="-1" strike="noStrike">
                <a:solidFill>
                  <a:srgbClr val="000000"/>
                </a:solidFill>
                <a:latin typeface="Arial"/>
              </a:rPr>
              <a:t> </a:t>
            </a:r>
            <a:r>
              <a:rPr b="1" lang="el-GR" sz="2000" spc="-1" strike="noStrike">
                <a:solidFill>
                  <a:srgbClr val="000000"/>
                </a:solidFill>
                <a:latin typeface="Arial"/>
              </a:rPr>
              <a:t>Τα κύρια χαρακτηριστικά του</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ικά βασικό χαρακτηριστικό του προτύπου είναι η </a:t>
            </a:r>
            <a:r>
              <a:rPr b="1" lang="el-GR" sz="2000" spc="-1" strike="noStrike">
                <a:solidFill>
                  <a:srgbClr val="000000"/>
                </a:solidFill>
                <a:latin typeface="Arial"/>
              </a:rPr>
              <a:t>διεκπαιρεωτική ικανότητα (</a:t>
            </a:r>
            <a:r>
              <a:rPr b="1" lang="en-ZW" sz="2000" spc="-1" strike="noStrike">
                <a:solidFill>
                  <a:srgbClr val="000000"/>
                </a:solidFill>
                <a:latin typeface="Arial"/>
              </a:rPr>
              <a:t>throughput</a:t>
            </a:r>
            <a:r>
              <a:rPr b="1" lang="el-GR" sz="2000" spc="-1" strike="noStrike">
                <a:solidFill>
                  <a:srgbClr val="000000"/>
                </a:solidFill>
                <a:latin typeface="Arial"/>
              </a:rPr>
              <a:t>).</a:t>
            </a:r>
            <a:r>
              <a:rPr b="0" lang="el-GR" sz="2000" spc="-1" strike="noStrike">
                <a:solidFill>
                  <a:srgbClr val="000000"/>
                </a:solidFill>
                <a:latin typeface="Arial"/>
              </a:rPr>
              <a:t> </a:t>
            </a:r>
            <a:r>
              <a:rPr b="0" lang="en-ZW" sz="2000" spc="-1" strike="noStrike">
                <a:solidFill>
                  <a:srgbClr val="000000"/>
                </a:solidFill>
                <a:latin typeface="Arial"/>
              </a:rPr>
              <a:t>To</a:t>
            </a:r>
            <a:r>
              <a:rPr b="0" lang="el-GR" sz="2000" spc="-1" strike="noStrike">
                <a:solidFill>
                  <a:srgbClr val="000000"/>
                </a:solidFill>
                <a:latin typeface="Arial"/>
              </a:rPr>
              <a:t> πρότυπο ΙΕΕΕ 802.16 επιτυγχάνει πολύ μεγάλη διεκπαιρεωτική ικανότητα, ακόμα και σε μεγάλες αποστάσεις αφού έχει ένα πολύ μεγάλο φάσμα εκπομπής που είναι ιδιαίτερα ανθεκτικό σε αντανακλάσεις του σήματος κατά τη διάρκεια της διαδρομής το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ίσης πολύ σημαντικό για τη διάδοση του είναι η </a:t>
            </a:r>
            <a:r>
              <a:rPr b="1" lang="el-GR" sz="2000" spc="-1" strike="noStrike">
                <a:solidFill>
                  <a:srgbClr val="000000"/>
                </a:solidFill>
                <a:latin typeface="Arial"/>
              </a:rPr>
              <a:t>κλιμακοσιμότητα (</a:t>
            </a:r>
            <a:r>
              <a:rPr b="1" lang="en-ZW" sz="2000" spc="-1" strike="noStrike">
                <a:solidFill>
                  <a:srgbClr val="000000"/>
                </a:solidFill>
                <a:latin typeface="Arial"/>
              </a:rPr>
              <a:t>scalability</a:t>
            </a:r>
            <a:r>
              <a:rPr b="1" lang="el-GR" sz="2000" spc="-1" strike="noStrike">
                <a:solidFill>
                  <a:srgbClr val="000000"/>
                </a:solidFill>
                <a:latin typeface="Arial"/>
              </a:rPr>
              <a:t>)</a:t>
            </a:r>
            <a:r>
              <a:rPr b="0" lang="el-GR" sz="2000" spc="-1" strike="noStrike">
                <a:solidFill>
                  <a:srgbClr val="000000"/>
                </a:solidFill>
                <a:latin typeface="Arial"/>
              </a:rPr>
              <a:t> ή καλύτερα επεκτασιμότητα. Για να μπορεί να γίνει εύκολος και επεκτάσιμος σχεδιασμός κυψελών (</a:t>
            </a:r>
            <a:r>
              <a:rPr b="0" lang="en-ZW" sz="2000" spc="-1" strike="noStrike">
                <a:solidFill>
                  <a:srgbClr val="000000"/>
                </a:solidFill>
                <a:latin typeface="Arial"/>
              </a:rPr>
              <a:t>cells</a:t>
            </a:r>
            <a:r>
              <a:rPr b="0" lang="el-GR" sz="2000" spc="-1" strike="noStrike">
                <a:solidFill>
                  <a:srgbClr val="000000"/>
                </a:solidFill>
                <a:latin typeface="Arial"/>
              </a:rPr>
              <a:t>) επικοινωνίας σε επιτρεπόμενες και μη συχνοτικές μπάντες ,το πρότυπο ΙΕΕΕ 802.16 υποστηρίζει ευέλικτα από την άποψη εύρους ζώνης κανάλια επικοινωνίας. Για παράδειγμα αν σε κάποιο χειριστή ανατεθεί συχνοτικό φάσμα τον 20 </a:t>
            </a:r>
            <a:r>
              <a:rPr b="0" lang="en-ZW" sz="2000" spc="-1" strike="noStrike">
                <a:solidFill>
                  <a:srgbClr val="000000"/>
                </a:solidFill>
                <a:latin typeface="Arial"/>
              </a:rPr>
              <a:t>MHz</a:t>
            </a:r>
            <a:r>
              <a:rPr b="0" lang="el-GR" sz="2000" spc="-1" strike="noStrike">
                <a:solidFill>
                  <a:srgbClr val="000000"/>
                </a:solidFill>
                <a:latin typeface="Arial"/>
              </a:rPr>
              <a:t>, τότε αυτός μπορεί να χωρίσει το φάσμα σε δύο κομμάτια των 10 </a:t>
            </a:r>
            <a:r>
              <a:rPr b="0" lang="en-ZW" sz="2000" spc="-1" strike="noStrike">
                <a:solidFill>
                  <a:srgbClr val="000000"/>
                </a:solidFill>
                <a:latin typeface="Arial"/>
              </a:rPr>
              <a:t>MHz</a:t>
            </a:r>
            <a:r>
              <a:rPr b="0" lang="el-GR" sz="2000" spc="-1" strike="noStrike">
                <a:solidFill>
                  <a:srgbClr val="000000"/>
                </a:solidFill>
                <a:latin typeface="Arial"/>
              </a:rPr>
              <a:t> ή ακόμα σε τέσσερα κομμάτια των 5 </a:t>
            </a:r>
            <a:r>
              <a:rPr b="0" lang="en-ZW" sz="2000" spc="-1" strike="noStrike">
                <a:solidFill>
                  <a:srgbClr val="000000"/>
                </a:solidFill>
                <a:latin typeface="Arial"/>
              </a:rPr>
              <a:t>MHz</a:t>
            </a:r>
            <a:r>
              <a:rPr b="0" lang="el-GR" sz="2000" spc="-1" strike="noStrike">
                <a:solidFill>
                  <a:srgbClr val="000000"/>
                </a:solidFill>
                <a:latin typeface="Arial"/>
              </a:rPr>
              <a:t>. Συγκεντρώνοντας έτσι όλη την ενέργεια σε ένα πολύ μικρό φάσμα συχνοτήτων ο χειριστής μπορεί να αυξήσει τον αριθμό των χρηστών επιτυγχάνοντας παράλληλα μεγάλο βεληνεκές και </a:t>
            </a:r>
            <a:r>
              <a:rPr b="0" lang="en-ZW" sz="2000" spc="-1" strike="noStrike">
                <a:solidFill>
                  <a:srgbClr val="000000"/>
                </a:solidFill>
                <a:latin typeface="Arial"/>
              </a:rPr>
              <a:t>throughput</a:t>
            </a:r>
            <a:r>
              <a:rPr b="0" lang="el-GR" sz="2000" spc="-1" strike="noStrike">
                <a:solidFill>
                  <a:srgbClr val="000000"/>
                </a:solidFill>
                <a:latin typeface="Arial"/>
              </a:rPr>
              <a:t>. Για να κλιμακώσει ακόμα περισσότερο την εμβέλεια του σήματος , ο χειριστής μπορεί να χωρίσει ακόμα περισσότερο το φάσμα συχνοτήτων δημιουργώντας απομόνωση μεταξύ των κεραιών των σταθμών βά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980640"/>
            <a:ext cx="8229600" cy="4753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 άλλο εξίσου σημαντικό χαρακτηριστικό του </a:t>
            </a:r>
            <a:r>
              <a:rPr b="0" lang="en-US" sz="1800" spc="-1" strike="noStrike">
                <a:solidFill>
                  <a:srgbClr val="000000"/>
                </a:solidFill>
                <a:latin typeface="Arial"/>
              </a:rPr>
              <a:t>WiMax</a:t>
            </a:r>
            <a:r>
              <a:rPr b="0" lang="el-GR" sz="1800" spc="-1" strike="noStrike">
                <a:solidFill>
                  <a:srgbClr val="000000"/>
                </a:solidFill>
                <a:latin typeface="Arial"/>
              </a:rPr>
              <a:t> είναι η </a:t>
            </a:r>
            <a:r>
              <a:rPr b="1" lang="el-GR" sz="1800" spc="-1" strike="noStrike">
                <a:solidFill>
                  <a:srgbClr val="000000"/>
                </a:solidFill>
                <a:latin typeface="Arial"/>
              </a:rPr>
              <a:t>εμβέλεια (</a:t>
            </a:r>
            <a:r>
              <a:rPr b="1" lang="en-ZW" sz="1800" spc="-1" strike="noStrike">
                <a:solidFill>
                  <a:srgbClr val="000000"/>
                </a:solidFill>
                <a:latin typeface="Arial"/>
              </a:rPr>
              <a:t>coverage</a:t>
            </a:r>
            <a:r>
              <a:rPr b="1" lang="el-GR" sz="1800" spc="-1" strike="noStrike">
                <a:solidFill>
                  <a:srgbClr val="000000"/>
                </a:solidFill>
                <a:latin typeface="Arial"/>
              </a:rPr>
              <a:t>).</a:t>
            </a:r>
            <a:r>
              <a:rPr b="0" lang="el-GR" sz="1800" spc="-1" strike="noStrike">
                <a:solidFill>
                  <a:srgbClr val="000000"/>
                </a:solidFill>
                <a:latin typeface="Arial"/>
              </a:rPr>
              <a:t> </a:t>
            </a:r>
            <a:r>
              <a:rPr b="0" lang="en-ZW" sz="1800" spc="-1" strike="noStrike">
                <a:solidFill>
                  <a:srgbClr val="000000"/>
                </a:solidFill>
                <a:latin typeface="Arial"/>
              </a:rPr>
              <a:t>To</a:t>
            </a:r>
            <a:r>
              <a:rPr b="0" lang="el-GR" sz="1800" spc="-1" strike="noStrike">
                <a:solidFill>
                  <a:srgbClr val="000000"/>
                </a:solidFill>
                <a:latin typeface="Arial"/>
              </a:rPr>
              <a:t> πρότυπο ΙΕΕΕ 802.16 κατασκευάζεται έτσι ώστε να υποστηρίζει τεχνολογίες που αυξάνουν την εμβέλεια του σήματος όπως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και έξυπνες κεραίες. Αξίζει να σημειώσουμε ότι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είναι αυτές οι τοπολογίες δικτύου όπου κάθε κόμβος συνδέεται άμεσα με κάθε άλλο κόμβο του δικτύου. Όσο λοιπόν οι ράδιο-τεχνολογίες βελτιώνονται και το κόστος μειώνεται, μεγαλώνει και η δυνατότητα αύξησης της εμβέλειας και του </a:t>
            </a:r>
            <a:r>
              <a:rPr b="0" lang="en-ZW" sz="1800" spc="-1" strike="noStrike">
                <a:solidFill>
                  <a:srgbClr val="000000"/>
                </a:solidFill>
                <a:latin typeface="Arial"/>
              </a:rPr>
              <a:t>throughput</a:t>
            </a:r>
            <a:r>
              <a:rPr b="0" lang="el-GR" sz="1800" spc="-1" strike="noStrike">
                <a:solidFill>
                  <a:srgbClr val="000000"/>
                </a:solidFill>
                <a:latin typeface="Arial"/>
              </a:rPr>
              <a:t>  με τη χρήση πολλαπλών κεραιών καθώς ενθαρρύνεται και η εξάπλωση της εμβέλειας σε περιοχές που παλαιότερα ήταν αδύνατο να εξαπλωθεί.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H </a:t>
            </a:r>
            <a:r>
              <a:rPr b="1" lang="el-GR" sz="1800" spc="-1" strike="noStrike">
                <a:solidFill>
                  <a:srgbClr val="000000"/>
                </a:solidFill>
                <a:latin typeface="Arial"/>
              </a:rPr>
              <a:t>παροχή υψηλής ποιότητας υπηρεσιών (</a:t>
            </a:r>
            <a:r>
              <a:rPr b="1" lang="en-ZW" sz="1800" spc="-1" strike="noStrike">
                <a:solidFill>
                  <a:srgbClr val="000000"/>
                </a:solidFill>
                <a:latin typeface="Arial"/>
              </a:rPr>
              <a:t>QoS</a:t>
            </a:r>
            <a:r>
              <a:rPr b="1" lang="el-GR" sz="1800" spc="-1" strike="noStrike">
                <a:solidFill>
                  <a:srgbClr val="000000"/>
                </a:solidFill>
                <a:latin typeface="Arial"/>
              </a:rPr>
              <a:t> ή </a:t>
            </a:r>
            <a:r>
              <a:rPr b="1" lang="en-ZW" sz="1800" spc="-1" strike="noStrike">
                <a:solidFill>
                  <a:srgbClr val="000000"/>
                </a:solidFill>
                <a:latin typeface="Arial"/>
              </a:rPr>
              <a:t>Quality of service</a:t>
            </a:r>
            <a:r>
              <a:rPr b="1" lang="el-GR" sz="1800" spc="-1" strike="noStrike">
                <a:solidFill>
                  <a:srgbClr val="000000"/>
                </a:solidFill>
                <a:latin typeface="Arial"/>
              </a:rPr>
              <a:t>)</a:t>
            </a:r>
            <a:r>
              <a:rPr b="0" lang="el-GR" sz="1800" spc="-1" strike="noStrike">
                <a:solidFill>
                  <a:srgbClr val="000000"/>
                </a:solidFill>
                <a:latin typeface="Arial"/>
              </a:rPr>
              <a:t> όπως είναι η μεταφορά φωνής, είναι εξαιρετικά σημαντική για την υιοθέτηση και εξάπλωση του προτύπου. Για αυτό ακριβώς το λόγο το υποπρότυπο 802.16</a:t>
            </a:r>
            <a:r>
              <a:rPr b="0" lang="en-ZW" sz="1800" spc="-1" strike="noStrike">
                <a:solidFill>
                  <a:srgbClr val="000000"/>
                </a:solidFill>
                <a:latin typeface="Arial"/>
              </a:rPr>
              <a:t>a</a:t>
            </a:r>
            <a:r>
              <a:rPr b="0" lang="el-GR" sz="1800" spc="-1" strike="noStrike">
                <a:solidFill>
                  <a:srgbClr val="000000"/>
                </a:solidFill>
                <a:latin typeface="Arial"/>
              </a:rPr>
              <a:t> συμπεριλαμβάνει κάποια ιδιαίτερα χαρακτηριστικά που κάνουν δυνατή τη μεταφορά φωνής και βίντεο αφού για να είναι εφικτή αυτή η μεταφορά χρειάζεται ένα χαμηλού φόρτου δίκτυο. </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99"/>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8360" y="0"/>
            <a:ext cx="4038480" cy="572616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1" lang="el-GR" sz="1600" spc="-1" strike="noStrike">
                <a:solidFill>
                  <a:srgbClr val="000000"/>
                </a:solidFill>
                <a:latin typeface="Arial"/>
              </a:rPr>
              <a:t>Χρήσεις του </a:t>
            </a:r>
            <a:r>
              <a:rPr b="1" lang="en-US" sz="1600" spc="-1" strike="noStrike">
                <a:solidFill>
                  <a:srgbClr val="000000"/>
                </a:solidFill>
                <a:latin typeface="Arial"/>
              </a:rPr>
              <a:t>WiMax</a:t>
            </a:r>
            <a:r>
              <a:rPr b="1" lang="el-GR" sz="1600" spc="-1" strike="noStrike">
                <a:solidFill>
                  <a:srgbClr val="000000"/>
                </a:solidFill>
                <a:latin typeface="Arial"/>
              </a:rPr>
              <a:t>, τοπολογίες και ρυθμοί μετάδοσης</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Λόγω των μεγάλων αποστάσεων που καλύπτει και ταυτόχρονα τους υψηλούς ρυθμούς μετάδοσης που μπορεί να παρέχει, το πρότυπο WiMAX βρίσκει πολλές εφαρμογές, λύνοντας σημαντικά προβλήματα που απασχολούσαν του τεχνικούς δικτύων σήμερα. Τρεις είναι οι βασικότερες χρήσεις του.</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ίκτυο κορμού στα κυψελωτά συστήματα κινητής τηλεφωνίας. Η εισαγωγή του προτύπου αυτού αναμένεται να μειώσει σημαντικά το κόστος εξάπλωσης των δικτύων κινητής τηλεφωνίας μιας και αποτελεί μια οικονομικότερη πρόταση, αν συγκριθεί με την οπτική ίνα, για τις εταιρίες κινητής τηλεφωνίας. Εξασφαλίζει ταυτόχρονα αξιοπιστία και υψηλούς ρυθμούς μετάδοσης που απαιτούν τα δίκτυα κορμού των κινητών δικτύων επικοινωνιών. </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roadband on Demand. Παρέχει υψηλούς ρυθμούς μετάδοσης κάνοντας εφικτή τη χρήση της τεχνολογίας για εφαρμογές πραγματικού χρόνου κάτι που με το πρότυπο ΙΕΕΕ 802.11 σε μεγάλες αποστάσεις δεν ήταν εφικτό.</a:t>
            </a:r>
            <a:endParaRPr b="0" lang="en-US" sz="1600" spc="-1" strike="noStrike">
              <a:solidFill>
                <a:srgbClr val="000000"/>
              </a:solidFill>
              <a:latin typeface="Arial"/>
            </a:endParaRPr>
          </a:p>
        </p:txBody>
      </p:sp>
      <p:pic>
        <p:nvPicPr>
          <p:cNvPr id="112" name="Picture 7" descr="wimax004"/>
          <p:cNvPicPr/>
          <p:nvPr/>
        </p:nvPicPr>
        <p:blipFill>
          <a:blip r:embed="rId1"/>
          <a:stretch/>
        </p:blipFill>
        <p:spPr>
          <a:xfrm>
            <a:off x="4648320" y="1484280"/>
            <a:ext cx="4038480" cy="4681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136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Arial"/>
              </a:rPr>
              <a:t>ΟΙ ΕΦΑΡΜΟΓΕΣ ΤΟΥ </a:t>
            </a:r>
            <a:r>
              <a:rPr b="0" lang="en-US" sz="3400" spc="-1" strike="noStrike">
                <a:solidFill>
                  <a:srgbClr val="000000"/>
                </a:solidFill>
                <a:latin typeface="Arial"/>
              </a:rPr>
              <a:t>WIMAX</a:t>
            </a:r>
            <a:endParaRPr b="0" lang="en-US" sz="3400" spc="-1" strike="noStrike">
              <a:solidFill>
                <a:srgbClr val="000000"/>
              </a:solidFill>
              <a:latin typeface="Arial"/>
            </a:endParaRPr>
          </a:p>
        </p:txBody>
      </p:sp>
      <p:sp>
        <p:nvSpPr>
          <p:cNvPr id="114" name="PlaceHolder 2"/>
          <p:cNvSpPr>
            <a:spLocks noGrp="1"/>
          </p:cNvSpPr>
          <p:nvPr>
            <p:ph/>
          </p:nvPr>
        </p:nvSpPr>
        <p:spPr>
          <a:xfrm>
            <a:off x="457200" y="691920"/>
            <a:ext cx="8229600" cy="54385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έχει κάλυψη σε περιοχές που είναι αδύνατο τα καλυφθούν με χρήση χαλκού ή οπτικής ίνας</a:t>
            </a:r>
            <a:r>
              <a:rPr b="0" lang="el-GR" sz="1800" spc="-1" strike="noStrike">
                <a:solidFill>
                  <a:srgbClr val="000000"/>
                </a:solidFill>
                <a:latin typeface="Arial"/>
              </a:rPr>
              <a:t>. Μπορεί να χρησιμοποιηθεί σαν συμπλήρωμα δικτύων οπτικών ινών σε τμήματα του εδάφους στα οποία το κόστος εγκατάστασης και συντήρησης δικτύων οπτικών ινών είναι απαγορευτικ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MΑΧ  έχει δύο κύριες εφαρμογές: οι σταθερές εφαρμογές WiMΑΧ είναι </a:t>
            </a:r>
            <a:r>
              <a:rPr b="1" lang="el-GR" sz="1800" spc="-1" strike="noStrike">
                <a:solidFill>
                  <a:srgbClr val="000000"/>
                </a:solidFill>
                <a:latin typeface="Arial"/>
              </a:rPr>
              <a:t>Point-to-Multipoint</a:t>
            </a:r>
            <a:r>
              <a:rPr b="0" lang="el-GR" sz="1800" spc="-1" strike="noStrike">
                <a:solidFill>
                  <a:srgbClr val="000000"/>
                </a:solidFill>
                <a:latin typeface="Arial"/>
              </a:rPr>
              <a:t> επιτρέποντας την ευρυζωνική πρόσβαση στα σπίτια και τις επιχειρήσεις, ενώ κινητό </a:t>
            </a:r>
            <a:r>
              <a:rPr b="0" lang="en-US" sz="1800" spc="-1" strike="noStrike">
                <a:solidFill>
                  <a:srgbClr val="000000"/>
                </a:solidFill>
                <a:latin typeface="Arial"/>
              </a:rPr>
              <a:t>WiMax</a:t>
            </a:r>
            <a:r>
              <a:rPr b="0" lang="el-GR" sz="1800" spc="-1" strike="noStrike">
                <a:solidFill>
                  <a:srgbClr val="000000"/>
                </a:solidFill>
                <a:latin typeface="Arial"/>
              </a:rPr>
              <a:t> προσφέρει την πλήρη κινητικότητα των κυψελοειδών δικτύων με τις αληθινές ευρυζωνικές ταχύτητες. Το WiMΑΧ σχεδιάστηκε κατά βάση ώστε να καλύπτει κυρίως Point-to-Multipoint (PTM) συνδέσεις χωρίς ωστόσο να αποκλείεται και η χρήση του για point to point συνδέσεις. Η διαμόρφωση η οποία χρησιμοποιείται ονομάζεται OFDM (Orthogonal Frequency Division Multiplexing). Πρόκειται για μια πολύ ανθεκτική διαμόρφωση σε ότι αφορά το φαινόμενο της πολυδιόδευσης ειδικότερα στις συχνότητες πάνω των 2 GHz όπου το πρότυπο χρησιμοποιεί. Συγκεκριμένα, αυτή η διαμόρφωση έχει πλεονεκτήματα στη ρυθμοαπόδοση, στη λανθάνουσα κατάσταση, τη φασματική αποδοτικότητα και την προηγμένη υποστήριξη κεραιών κάνοντάς το ικανό να παρέχει την υψηλότερη απόδοση από τις σημερινές ευρείες ασύρματες  τεχνολογίες περιοχής. </a:t>
            </a:r>
            <a:endParaRPr b="0" lang="en-US" sz="1800" spc="-1" strike="noStrike">
              <a:solidFill>
                <a:srgbClr val="000000"/>
              </a:solidFill>
              <a:latin typeface="Arial"/>
            </a:endParaRPr>
          </a:p>
          <a:p>
            <a:pPr marL="343080" indent="-3430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9999"/>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Arial"/>
              </a:rPr>
              <a:t>ΠΗΓΕΣ ΠΛΗΡΟΦΟΡΙΩΝ</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91520" cy="453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u="sng">
                <a:solidFill>
                  <a:srgbClr val="009999"/>
                </a:solidFill>
                <a:uFillTx/>
                <a:latin typeface="Arial"/>
                <a:hlinkClick r:id="rId1"/>
              </a:rPr>
              <a:t>http://www.pestaola.gr/wimax-in-plain-greek/ν</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el.wikipedia.org/wiki/WiMAX</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bestbuydoc.com/el/doc-file/5956/%CE%B5%CF%81%CE%B3%CE%B1%CF%83%CE%AF%CE%B1-%CF%83%CF%84%CE%B1-%CF%80%CE%BB%CE%B1%CE%B9%CF%83%CE%B9%CE%B1-%CF%84%CE%BF%CF%85-%CE%BC%CE%B1%CE%B8%CE%B7%CE%BC%CE%B1%CF%84%CE%BF%CF%83-%CE%B4%CE%AF%CE%BA%CF%84%CF%85%CE%B1-%CE%B4%CE%B7%CE%BC%CF%8C%CF%83%CE%B9%CE%B1%CF%82-%CF%87%CF%81%CE%AE%CF%83%CE%B7%CF%82-%CE%BA%CE%B1%CE%B9-%CE%B4%CE%B9%CE%B1%CF%83%CF%8D%CE%BD%CE%B4%CE%B5%CF%83%CE%B7-%CE%B4%CE%B9%CE%BA%CF%84%CF%8D%CF%89%CE%B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ΡΓΑΣΙΑ ΑΣΥΡΜΑΤΑ ΔΙΚΤΥΑ  ΟΜΑΔΑ  3</a:t>
            </a:r>
            <a:br>
              <a:rPr sz="4000"/>
            </a:br>
            <a:r>
              <a:rPr b="0" lang="el-GR" sz="4000" spc="-1" strike="noStrike">
                <a:solidFill>
                  <a:srgbClr val="000000"/>
                </a:solidFill>
                <a:latin typeface="Arial"/>
              </a:rPr>
              <a:t> ΓΙΩΡΓΟΣ  ΧΑΪΔΕΜΕΝΟΣ  ΒΠ</a:t>
            </a:r>
            <a:endParaRPr b="0" lang="en-US" sz="40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a:t>
            </a:r>
            <a:r>
              <a:rPr b="0" lang="en-US" sz="3200" spc="-1" strike="noStrike">
                <a:solidFill>
                  <a:srgbClr val="000000"/>
                </a:solidFill>
                <a:latin typeface="Arial"/>
              </a:rPr>
              <a:t> GP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5331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GPS</a:t>
            </a:r>
            <a:endParaRPr b="0" lang="en-US" sz="6000" spc="-1" strike="noStrike">
              <a:solidFill>
                <a:srgbClr val="000000"/>
              </a:solidFill>
              <a:latin typeface="Arial"/>
            </a:endParaRPr>
          </a:p>
        </p:txBody>
      </p:sp>
      <p:pic>
        <p:nvPicPr>
          <p:cNvPr id="120" name="Picture 8" descr="ConstellationGPS"/>
          <p:cNvPicPr/>
          <p:nvPr/>
        </p:nvPicPr>
        <p:blipFill>
          <a:blip r:embed="rId1"/>
          <a:stretch/>
        </p:blipFill>
        <p:spPr>
          <a:xfrm>
            <a:off x="826920" y="1916280"/>
            <a:ext cx="3745080" cy="3960720"/>
          </a:xfrm>
          <a:prstGeom prst="rect">
            <a:avLst/>
          </a:prstGeom>
          <a:ln w="0">
            <a:noFill/>
          </a:ln>
        </p:spPr>
      </p:pic>
      <p:pic>
        <p:nvPicPr>
          <p:cNvPr id="121" name="Picture 9" descr="images"/>
          <p:cNvPicPr/>
          <p:nvPr/>
        </p:nvPicPr>
        <p:blipFill>
          <a:blip r:embed="rId2"/>
          <a:stretch/>
        </p:blipFill>
        <p:spPr>
          <a:xfrm>
            <a:off x="4356000" y="1905120"/>
            <a:ext cx="4032360" cy="1942920"/>
          </a:xfrm>
          <a:prstGeom prst="rect">
            <a:avLst/>
          </a:prstGeom>
          <a:ln w="0">
            <a:noFill/>
          </a:ln>
        </p:spPr>
      </p:pic>
      <p:pic>
        <p:nvPicPr>
          <p:cNvPr id="122" name="Picture 10" descr="ag_GPS_Mobile_Location_Operation_low_res"/>
          <p:cNvPicPr/>
          <p:nvPr/>
        </p:nvPicPr>
        <p:blipFill>
          <a:blip r:embed="rId3"/>
          <a:stretch/>
        </p:blipFill>
        <p:spPr>
          <a:xfrm>
            <a:off x="4427640" y="3860640"/>
            <a:ext cx="3960720" cy="208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omic Sans MS"/>
              </a:rPr>
              <a:t>ΤΙ ΕΙΝΑΙ ΤΟ </a:t>
            </a:r>
            <a:r>
              <a:rPr b="0" lang="en-US" sz="4400" spc="-1" strike="noStrike">
                <a:solidFill>
                  <a:srgbClr val="000000"/>
                </a:solidFill>
                <a:latin typeface="Comic Sans MS"/>
              </a:rPr>
              <a:t>GPS</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Κάθε δορυφόρος μεταδίδει ένα ηλεκτρομαγνητικό σήμα - μία δέσμη μικροκυμάτων - που αναγγέλλει την παρουσία του σε οποιοδήποτε άτομο στη Γη που διαθέτει ένα δέκτη έτοιμο να λάβει το σήμα. Συνεπώς, ένας λήπτης GPS λαμβάνει ανά πάσα στιγμή σήματα από τέσσερις δορυφόρους. Ο ενσωματωμένος ηλεκτρονικός υπολογιστής χρησιμοποιεί αυτά τα σήματα για να υπολογίσει την ακριβή σας απόσταση από καθένα από τους τέσσερις δορυφόρους και στη συνέχεια να υπολογίσει την ακριβή σας θέση επί του πλανήτη με απόκλιση λίγων μέτρων βάσει αυτών των αποστάσεων </a:t>
            </a:r>
            <a:r>
              <a:rPr b="0" lang="el-GR" sz="1800" spc="-1" strike="noStrike" u="sng">
                <a:solidFill>
                  <a:srgbClr val="009999"/>
                </a:solidFill>
                <a:uFillTx/>
                <a:latin typeface="Comic Sans MS"/>
                <a:hlinkClick r:id="rId1"/>
              </a:rPr>
              <a:t>http://eu.mio.com/el_gr/global-positioning-system_how-does-gps-work.htm</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Το πρώτο τοπικό δίκτυο</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μοντέρνα ασύρματη ψηφιακή επικοινωνία ξεκίνησε από τα νησιά της Χαβάης,</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όπου το τηλεφωνικό δίκτυο ήταν ανεπαρκές και έπρεπε να βρεθεί κάποια άλλη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λύση. Η πρώτη ουσιαστική προσπάθεια για δημιουργία ασύρματου τοπικού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ικτύου παρουσιάστηκε λοιπόν το 1971 από το πανεπιστήμιο της Χαβάης. Το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ώτο αυτό ασύρματο τοπικό δίκτυο (ALOHNET) αποτελούνταν από επτά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υπολογιστές τοποθετημένους σε τέσσερα νησιά της Χαβάης, οι οποίο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πικοινωνούσαν με έναν κεντρικό υπολογιστή που βρισκόταν στο νησί Oahu.</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ΣΥΣΤΗΜΑ ΠΡΟΣΔΙΟΡΙΣΜΟΥ ΘΕΣΗΣ</a:t>
            </a:r>
            <a:endParaRPr b="0" lang="en-US" sz="29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παγκόσμιο σύστημα προσδιορισμού θέσης (GPS) είναι ένα δίκτυο δορυφόρων που κινούνται σε τροχιά γύρω από τη Γη και μεταδίδουν ένα σήμα προς δέκτες GPS και συσκευές δορυφορικής πλοήγησης, παρέχοντας την ακριβή θέση, την ταχύτητα και το ύψος αν βρίσκεστε σε αεροσκάφος ή σε ορεινή περιοχή.</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ι χάρτες δεν παρέχονται από τους δορυφόρους GPS, οι οποίοι απλώς παρέχουν τον εντοπισμό της θέσης που στη συνέχεια τοποθετείται στους χάρτες από το δικό σας δέκτη GPS. Όλες οι συσκευές δορυφορικής πλοήγησης παρέχονται με προεγκαταστημένους χάρτες, αλλά για να εξασφαλίσετε ότι διαθέτετε τους πλέον πρόσφατους χάρτες για τη δική σας συσκευή δορυφορικής πλοήγησης, πρέπει να μεταφορτώνετε τακτικά το λογισμικό χαρτογράφησης GPS.</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α την ενημέρωση του λογισμικού χαρτογράφησης στη δική σας συσκευή GPS απαιτείται ένας ηλεκτρονικός υπολογιστής με σύνδεση στο Διαδίκτυο και το λογισμικό ενημέρωσης της συσκευής δορυφορικής πλοήγησης. Συνδέετε απλώς τη συσκευή δορυφορικής πλοήγησης στον ηλεκτρονικό υπολογιστή, ενεργοποιείτε το λογισμικό ενημέρωσης ενώ είστε συνδεδεμένοι στο Διαδίκτυο και οι πλέον πρόσφατοι χάρτες εγκαθίστανται στη δική σας συσκευή GPS. </a:t>
            </a:r>
            <a:r>
              <a:rPr b="0" lang="el-GR" sz="1600" spc="-1" strike="noStrike" u="sng">
                <a:solidFill>
                  <a:srgbClr val="009999"/>
                </a:solidFill>
                <a:uFillTx/>
                <a:latin typeface="Comic Sans MS"/>
                <a:hlinkClick r:id="rId1"/>
              </a:rPr>
              <a:t>http://coolweb.gr/ti-einai-gps-pos-leitourge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44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ΠΡΟΕΛΕΥΣΗ  ΧΑΡΑΚΤΗΡΙΣΤΙΚΑ </a:t>
            </a:r>
            <a:r>
              <a:rPr b="0" lang="en-US" sz="2900" spc="-1" strike="noStrike">
                <a:solidFill>
                  <a:srgbClr val="000000"/>
                </a:solidFill>
                <a:latin typeface="Arial"/>
              </a:rPr>
              <a:t>GPS</a:t>
            </a:r>
            <a:endParaRPr b="0" lang="en-US" sz="2900" spc="-1" strike="noStrike">
              <a:solidFill>
                <a:srgbClr val="000000"/>
              </a:solidFill>
              <a:latin typeface="Arial"/>
            </a:endParaRPr>
          </a:p>
        </p:txBody>
      </p:sp>
      <p:sp>
        <p:nvSpPr>
          <p:cNvPr id="128" name="PlaceHolder 2"/>
          <p:cNvSpPr>
            <a:spLocks noGrp="1"/>
          </p:cNvSpPr>
          <p:nvPr>
            <p:ph/>
          </p:nvPr>
        </p:nvSpPr>
        <p:spPr>
          <a:xfrm>
            <a:off x="761760" y="1905120"/>
            <a:ext cx="5322600" cy="4038480"/>
          </a:xfrm>
          <a:prstGeom prst="rect">
            <a:avLst/>
          </a:prstGeom>
          <a:noFill/>
          <a:ln w="0">
            <a:noFill/>
          </a:ln>
        </p:spPr>
        <p:txBody>
          <a:bodyPr anchor="t">
            <a:normAutofit fontScale="95000"/>
          </a:bodyPr>
          <a:p>
            <a:pPr marL="325800" indent="-3258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ά του GPS προέρχεται από τα αρχικά των λέξεων global positioning system, το οποίο ουσιαστικά σημαίνει σύστημα προσδιορισμού θέσης (στίγματος) στη γη. Το GPS είναι ένα σύστημα που αποτελείται από 24 δορυφόρους που βρίσκονται σε τροχιά στο διάστημα, σε απόσταση 11 χιλιάδων ναυτικών μιλίων από τη γη και κινούνται σε 6 διαφορετικές τροχιές. Οι δορυφόροι αυτοί βρίσκονται διαρκώς σε κίνηση, κάνοντας 2 πλήρεις περιφορές γύρω από τη γη σε λιγότερο από 24 ώρες. Αν το υπολογίσουμε με μαθηματικά θα δούμε ότι η ταχύτητά τους φτάνει τα 1,8 μίλια το δευτερόλεπτο !</a:t>
            </a:r>
            <a:endParaRPr b="0" lang="en-US" sz="1400" spc="-1" strike="noStrike">
              <a:solidFill>
                <a:srgbClr val="000000"/>
              </a:solidFill>
              <a:latin typeface="Arial"/>
            </a:endParaRPr>
          </a:p>
          <a:p>
            <a:pPr marL="325800" indent="-32580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ά ενδιαφέροντα χαρακτηριστικά τους:</a:t>
            </a:r>
            <a:br>
              <a:rPr sz="1400"/>
            </a:br>
            <a:r>
              <a:rPr b="0" lang="el-GR" sz="1400" spc="-1" strike="noStrike">
                <a:solidFill>
                  <a:srgbClr val="000000"/>
                </a:solidFill>
                <a:latin typeface="Comic Sans MS"/>
              </a:rPr>
              <a:t>•Ο πρώτος δορυφόρος GPS εκτοξεύτηκε τον Φεβρουάριο του 1978. </a:t>
            </a:r>
            <a:br>
              <a:rPr sz="1400"/>
            </a:br>
            <a:r>
              <a:rPr b="0" lang="el-GR" sz="1400" spc="-1" strike="noStrike">
                <a:solidFill>
                  <a:srgbClr val="000000"/>
                </a:solidFill>
                <a:latin typeface="Comic Sans MS"/>
              </a:rPr>
              <a:t>   •Ο κάθε δορυφόρος ζυγίζει κάτι λιγότερο από 1 τόνο, και το πλάτος του δεν ξεπερνά τα 5 μέτρα με τις ηλιακές κυψέλες σε ανοιχτή θέση. </a:t>
            </a:r>
            <a:br>
              <a:rPr sz="1400"/>
            </a:br>
            <a:r>
              <a:rPr b="0" lang="el-GR" sz="1400" spc="-1" strike="noStrike">
                <a:solidFill>
                  <a:srgbClr val="000000"/>
                </a:solidFill>
                <a:latin typeface="Comic Sans MS"/>
              </a:rPr>
              <a:t>   •Η ισχύς του πομπού του είναι μέγιστο 50 watt. </a:t>
            </a:r>
            <a:br>
              <a:rPr sz="1400"/>
            </a:br>
            <a:r>
              <a:rPr b="0" lang="el-GR" sz="1400" spc="-1" strike="noStrike">
                <a:solidFill>
                  <a:srgbClr val="000000"/>
                </a:solidFill>
                <a:latin typeface="Comic Sans MS"/>
              </a:rPr>
              <a:t>   •Κάθε δορυφόρος εκπέμπει σε τρεις διαφορετικές συχνότητες. Τα GPS πολιτικής χρήσης χρησιμοποιούν τη συχνότητα 'L1', στα 1575.42 MHz. </a:t>
            </a:r>
            <a:br>
              <a:rPr sz="1400"/>
            </a:br>
            <a:r>
              <a:rPr b="0" lang="el-GR" sz="1400" spc="-1" strike="noStrike">
                <a:solidFill>
                  <a:srgbClr val="000000"/>
                </a:solidFill>
                <a:latin typeface="Comic Sans MS"/>
              </a:rPr>
              <a:t>    •Οι δορυφόροι GPS έχουν μέση διάρκεια ζωής 10 χρόνια. Η αντικατάστασή τους γίνεται κανονικά εδώ και χρόνια με νέους δορυφόρους </a:t>
            </a:r>
            <a:endParaRPr b="0" lang="en-US" sz="1400" spc="-1" strike="noStrike">
              <a:solidFill>
                <a:srgbClr val="000000"/>
              </a:solidFill>
              <a:latin typeface="Arial"/>
            </a:endParaRPr>
          </a:p>
        </p:txBody>
      </p:sp>
      <p:pic>
        <p:nvPicPr>
          <p:cNvPr id="129" name="Picture 8" descr="gps1"/>
          <p:cNvPicPr/>
          <p:nvPr/>
        </p:nvPicPr>
        <p:blipFill>
          <a:blip r:embed="rId1"/>
          <a:stretch/>
        </p:blipFill>
        <p:spPr>
          <a:xfrm>
            <a:off x="6227640" y="1844640"/>
            <a:ext cx="1943280" cy="1943280"/>
          </a:xfrm>
          <a:prstGeom prst="rect">
            <a:avLst/>
          </a:prstGeom>
          <a:ln w="0">
            <a:noFill/>
          </a:ln>
        </p:spPr>
      </p:pic>
      <p:pic>
        <p:nvPicPr>
          <p:cNvPr id="130" name="Picture 9" descr="gps_sv_bII"/>
          <p:cNvPicPr/>
          <p:nvPr/>
        </p:nvPicPr>
        <p:blipFill>
          <a:blip r:embed="rId2"/>
          <a:stretch/>
        </p:blipFill>
        <p:spPr>
          <a:xfrm>
            <a:off x="6227640" y="4149720"/>
            <a:ext cx="2095560" cy="1600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333000"/>
            <a:ext cx="7696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1 </a:t>
            </a:r>
            <a:r>
              <a:rPr b="0" lang="el-GR" sz="2900" spc="-1" strike="noStrike">
                <a:solidFill>
                  <a:srgbClr val="000000"/>
                </a:solidFill>
                <a:latin typeface="Arial"/>
              </a:rPr>
              <a:t>   </a:t>
            </a:r>
            <a:endParaRPr b="0" lang="en-US" sz="29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μεγαλύτερο καλό που προσφέρει το σύστημα GPS σε σχέση με τα προηγούμενα συστήματα προσδιορισμού θέσης μέσω σταθμών εδάφους, είναι ότι το GPS δουλεύει ανεξάρτητα από τις καιρικές συνθήκες. Και βέβαια, στις δύσκολες συνθήκες είναι που το χρειάζεται κανείς περισσότερο.</a:t>
            </a:r>
            <a:br>
              <a:rPr sz="1600"/>
            </a:br>
            <a:r>
              <a:rPr b="0" lang="el-GR" sz="1600" spc="-1" strike="noStrike">
                <a:solidFill>
                  <a:srgbClr val="000000"/>
                </a:solidFill>
                <a:latin typeface="Comic Sans MS"/>
              </a:rPr>
              <a:t>Για να το δούμε απλοποιημένα: Κάθε δορυφόρος εκπέμπει ένα μήνυμα το οποίο λέει “Είμαι ο δορυφόρος νούμερο Χ, η θέση μου αυτή τη στιγμή είναι η Υ, και το μήνυμα αυτό στάλθηκε τη χρονική στιγμή Ζ” Το GPS μας λαμβάνει αυτή την πληροφορία, και φυλάει τα δεδομένα ephemeris, και αλμανάκ για να τα χρησιμοποιήσει και στη συνέχεια. Με βάση αυτή την πληροφορία επίσης, το GPS μπορεί να κάνει και διορθώσεις στο εσωτερικό του ρολόι ώστε να υπάρχει συγχρονισμός.. Ας δούμε όμως γιατί ο χρονικός προσδιορισμός του σήματος είναι απαραίτητος. Για να προσδιορίσει την ακριβή θέση του, το GPS συγκρίνει την ώρα που ο δορυφόρος εξέπεμψε το μήνυμα, με την ώρα που το μήνυμα ελήφθη από το GPS. Η διαφορά αυτή δείχνει στο GPS πόσο μακριά είναι ο δορυφόρος-αποστολέας. Αν τώρα προσθέσουμε και τις μετρήσεις που παίρνουμε και από τους άλλους δορυφόρους που βρίσκονται στην εμβέλειά μας, προσδιορίζουμε την ακριβή θέση μας με τριγωνομετρικούς υπολογισμούς. Αυτή ακριβώς είναι η δουλειά που κάνει το G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2</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 αυτό χρειάζονται τουλάχιστον τρεις δορυφόροι ώστε να μπορεί να προσδιοριστεί το γεωγραφικό μήκος και πλάτος (latitude/longitude),  το στίγμα μας σε δύο διαστάσεις. Με περισσότερους από τρεις δορυφόρους διαθέσιμους, ένα GPS μπορεί να προσδιορίσει και την τρίτη διάσταση (το ύψος-altitude). Επειδή η πληροφορία αυτή εκπέμπεται συνεχώς από όλους τους δορυφόρους, το GPS μπορεί με τη διαφορά χρόνου και θέσης να προσδιορίσει και την ταχύτητα και την διεύθυνση που κινείται.</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Υπάρχουν πολλοί παράγοντες που αυξάνουν το σφάλμα στις μετρήσεις. Ο κυριότερος παράγοντας είναι αυτό που λέμε το Selective Availability (SA). Όπως λεει και η ίδια η λέξη, επίτηδες και επιλεκτικά ελαττώνεται η ακρίβεια του στίγματος από το ίδιο το σύστημα.</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ς ακόμα παράγοντας που επηρεάζει την ακρίβεια του GPS είναι η “γεωμετρία” των δορυφόρων. Με απλά λόγια, η γεωμετρική θέση των δορυφόρων είναι το σημείο που βρίσκεται ο καθένας σε σχέση με τους άλλους δορυφόρους, όπως φαίνεται από το GPS. Αν τώρα ένα GPS έχει στην εμβέλειά του τέσσερις δορυφόρους (που είναι αρκετοί για να δώσουν ένα ακριβές στίγμα) αλλά και οι τέσσερις είναι π.χ. βορειοδυτικά σε σχέση με το GPS, η “γεωμετρία” των δορυφόρων είναι πολύ κακ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3</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την πραγματικότητα, το GPS μπορεί να μην είναι σε θέση να δώσει καν στίγμα. Αυτό συμβαίνει γιατί όλες οι μετρήσεις της απόστασης από όλους τους δορυφόρους προέρχονται από την ίδια διεύθυνση, ΒΔ. Δηλαδή, τα τριγωνομετρικά δεδομένα που λαμβάνει το GPS όσον αφορά την περιοχή στην οποία βρίσκεται το στίγμα μας είναι ασαφή, η περιοχή που ορίζεται από τις τομές των αποστάσεων είναι πολύ μεγάλη, και έτσι ο ακριβής προσδιορισμός της θέσης του GPS είναι αδύνατος. Σε αυτή την περίπτωση το σφάλμα του στίγματος μπορεί να είναι της τάξης των 90 έως 150 μέτρων.</a:t>
            </a:r>
            <a:br>
              <a:rPr sz="1800"/>
            </a:br>
            <a:r>
              <a:rPr b="0" lang="el-GR" sz="1800" spc="-1" strike="noStrike">
                <a:solidFill>
                  <a:srgbClr val="000000"/>
                </a:solidFill>
                <a:latin typeface="Comic Sans MS"/>
              </a:rPr>
              <a:t>Στην αντίθετη περίπτωση, με τέσσερις δορυφόρους στην εμβέλεια του GPS κατανεμημένους στα τέσσερα σημεία του ορίζοντα, η ακρίβεια του στίγματος είναι η μέγιστη δυνατή. Η καλύτερη γεωμετρία των δορυφόρων είναι όταν αυτοί βρίσκονται ανά 90 μοίρες σε σχέση με το GPS. Το </a:t>
            </a:r>
            <a:br>
              <a:rPr sz="1800"/>
            </a:br>
            <a:r>
              <a:rPr b="0" lang="el-GR" sz="1800" spc="-1" strike="noStrike">
                <a:solidFill>
                  <a:srgbClr val="000000"/>
                </a:solidFill>
                <a:latin typeface="Comic Sans MS"/>
              </a:rPr>
              <a:t>στίγμα μας βρίσκεται στην περιοχή που ορίζεται εκεί που τέμνονται οι διευθύνσεις της απόστασης από τους τέσσερις δορυφόρους, και η περιοχή αυτή είναι τώρα πάρα πολύ μικρή. Ακόμα και με το Selective Availability, η ακρίβεια του στίγματος είναι της τάξης των 30 μέτρω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533520"/>
            <a:ext cx="7696080" cy="59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ΤΡΟΠΟΣ     ΛΕΙΤΟΥΡΓΙΑΣ   </a:t>
            </a:r>
            <a:r>
              <a:rPr b="0" lang="en-US" sz="2900" spc="-1" strike="noStrike">
                <a:solidFill>
                  <a:srgbClr val="000000"/>
                </a:solidFill>
                <a:latin typeface="Arial"/>
              </a:rPr>
              <a:t>GPS      </a:t>
            </a:r>
            <a:r>
              <a:rPr b="0" lang="el-GR" sz="2900" spc="-1" strike="noStrike">
                <a:solidFill>
                  <a:srgbClr val="000000"/>
                </a:solidFill>
                <a:latin typeface="Arial"/>
              </a:rPr>
              <a:t>4</a:t>
            </a:r>
            <a:r>
              <a:rPr b="0" lang="en-US" sz="2900" spc="-1" strike="noStrike">
                <a:solidFill>
                  <a:srgbClr val="000000"/>
                </a:solidFill>
                <a:latin typeface="Arial"/>
              </a:rPr>
              <a:t> </a:t>
            </a:r>
            <a:endParaRPr b="0" lang="en-US" sz="29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 άλλο πρόβλημα που επηρεάζει την ακρίβεια του στίγματος είναι οι αντανακλάσεις. Με απλά λόγια, κάθε ραδιοσήμα ανακλάται πάνω στα διάφορα αντικείμενα του φυσικού περιβάλλοντος και το σήμα φτάνει στο GPS καθυστερημένα αφού έχει ταξιδέψει μεγαλύτερη απόσταση από την αναμενόμενη. Αυτός ο επιπλέον χρόνος κάνει το GPS να πιστεύει ότι ο δορυφόρος που το εξέπεμψε βρίσκεται μακρύτερα από ότι είναι στην πραγματικότητα και έτσι προσδιορίζει λανθασμένα το σχετική θέση του.</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υτό το επιπλέον σφάλμα επιβαρύνει την ακρίβεια του στίγματος με άλλα 4-5 μέτρα.</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πιπλέον, η ακρίβεια ενός GPS μπορεί να βελτιωθεί στα 5 έως και 1 μέτρο με μια διαδικασία γνωστή και ως Differential GPS (DGPS). Με το DGPS, υπάρχουν ουσιαστικά δύο δέκτες μέσα σε μία συσκευή, ο δεύτερος υπολογίζει τις διορθώσεις που χρειάζονται στα δεδομένα που λαμβάνονται από τους δορυφόρους.</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πό την 1η Απριλίου του 2000, το Αμερικανικό Υπουργείο Άμυνας αποφάσισε να τερματίσει την εφαρμογή του εκούσιου σφάλματος Selective Availability, με αποτέλεσμα οι ενδείξεις του GPS να είναι ακριβείς έως και 3 μέτρα. </a:t>
            </a:r>
            <a:r>
              <a:rPr b="0" lang="el-GR" sz="1600" spc="-1" strike="noStrike" u="sng">
                <a:solidFill>
                  <a:srgbClr val="009999"/>
                </a:solidFill>
                <a:uFillTx/>
                <a:latin typeface="Comic Sans MS"/>
                <a:hlinkClick r:id="rId1"/>
              </a:rPr>
              <a:t>http://www.explain.gr/index.php/2009-12-24-19-42-17/62--g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549360"/>
            <a:ext cx="76262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ΟΙ ΧΡΗΣΕΙΣ ΤΟΥ </a:t>
            </a:r>
            <a:r>
              <a:rPr b="0" lang="en-US" sz="2900" spc="-1" strike="noStrike">
                <a:solidFill>
                  <a:srgbClr val="000000"/>
                </a:solidFill>
                <a:latin typeface="Arial"/>
              </a:rPr>
              <a:t>GPS</a:t>
            </a:r>
            <a:endParaRPr b="0" lang="en-US" sz="29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Η πλέον προφανής εφαρμογή GPS είναι η δορυφορική πλοήγηση για οχήματα, αεροσκάφη και πλοία. Παρέχει σε όλους όσοι διαθέτουν ένα λήπτη GPS τη δυνατότητα να προσδιορίζουν τη ταχύτητα και τη θέση τους στο χάρτη, στον αέρα ή στη θάλασσα, με εξαιρετική ακρίβεια. Οι οδηγοί μπορούν να χρησιμοποιούν φορητές συσκευές δορυφορικής πλοήγησης αυτοκινήτου για να ακολουθήσουν μία διαδρομή, να εντοπίζουν εναλλακτικά δρομολόγια για την παράκαμψη κυκλοφοριακών προβλημάτων και με το εγκαταστημένο πρόσθετο λογισμικό να λαμβάνουν ενημερώσεις και προειδοποιήσεις σχετικές με τις θέσεις καμερών ασφάλειας.</a:t>
            </a:r>
            <a:br>
              <a:rPr sz="1600"/>
            </a:br>
            <a:br>
              <a:rPr sz="1600"/>
            </a:br>
            <a:r>
              <a:rPr b="0" lang="el-GR" sz="1600" spc="-1" strike="noStrike">
                <a:solidFill>
                  <a:srgbClr val="000000"/>
                </a:solidFill>
                <a:latin typeface="Comic Sans MS"/>
              </a:rPr>
              <a:t>Το GPS χρησιμοποιείται από μία πληθώρα διαφορετικών χρηστών. Άτομα που πεζοπορούν και άλλοι φυσιολάτρες μπορούν να χρησιμοποιούν δέκτες GPS για να ελέγχουν κατά πόσον ακολουθούν την επιλεγμένη διαδρομή και να επισημαίνουν σημεία συνάντησης κατά μήκος αυτής. Τα άτομα που συμμετέχουν στο παιχνίδι της γεωαναζήτησης, ένα είδος κυνηγιού θησαυρού της ψηφιακής εποχής που χρησιμοποιεί ακριβή σήματα GPS για να βοηθήσει τους παίκτες να εντοπίσουν μία κρυψώνα. </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u="sng">
                <a:solidFill>
                  <a:srgbClr val="009999"/>
                </a:solidFill>
                <a:uFillTx/>
                <a:latin typeface="Comic Sans MS"/>
                <a:hlinkClick r:id="rId1"/>
              </a:rPr>
              <a:t>http://eu.mio.com/el_gr/global-positioning-system_applications-of-gp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omic Sans MS"/>
              </a:rPr>
              <a:t>      </a:t>
            </a:r>
            <a:r>
              <a:rPr b="0" lang="el-GR" sz="4400" spc="-1" strike="noStrike">
                <a:solidFill>
                  <a:srgbClr val="000000"/>
                </a:solidFill>
                <a:latin typeface="Comic Sans MS"/>
              </a:rPr>
              <a:t>ΠΗΓΕΣ ΠΛΗΡΟΦΟΡΙΩΝ</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how-does-gps-work.htm</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applications-of-gps.htm</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coolweb.gr/ti-einai-gps-pos-leitourgei/</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www.explain.gr/index.php/2009-12-24-19-42-17/62--g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000000"/>
                </a:solidFill>
                <a:latin typeface="Arial"/>
              </a:rPr>
              <a:t>ΕΡΓΑΣΙΑ ΑΣΥΡΜΑΤΑ ΔΙΚΤΥΑ  ΟΜΑΔΑ  3</a:t>
            </a:r>
            <a:br>
              <a:rPr sz="4800"/>
            </a:br>
            <a:r>
              <a:rPr b="0" lang="el-GR" sz="4800" spc="-1" strike="noStrike">
                <a:solidFill>
                  <a:srgbClr val="000000"/>
                </a:solidFill>
                <a:latin typeface="Arial"/>
              </a:rPr>
              <a:t> ΓΙΩΡΓΟΣ  ΧΑΪΔΕΜΕΝΟΣ  ΒΠ</a:t>
            </a:r>
            <a:endParaRPr b="0" lang="en-US" sz="4800" spc="-1" strike="noStrike">
              <a:solidFill>
                <a:srgbClr val="000000"/>
              </a:solidFill>
              <a:latin typeface="Arial"/>
            </a:endParaRPr>
          </a:p>
        </p:txBody>
      </p:sp>
      <p:sp>
        <p:nvSpPr>
          <p:cNvPr id="144" name="PlaceHolder 2"/>
          <p:cNvSpPr>
            <a:spLocks noGrp="1"/>
          </p:cNvSpPr>
          <p:nvPr>
            <p:ph type="subTitle"/>
          </p:nvPr>
        </p:nvSpPr>
        <p:spPr>
          <a:xfrm>
            <a:off x="1371600" y="3885840"/>
            <a:ext cx="6400800" cy="622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ΤΙ Ε</a:t>
            </a:r>
            <a:r>
              <a:rPr b="0" lang="en-US" sz="3200" spc="-1" strike="noStrike">
                <a:solidFill>
                  <a:srgbClr val="000000"/>
                </a:solidFill>
                <a:latin typeface="Arial"/>
              </a:rPr>
              <a:t>I</a:t>
            </a:r>
            <a:r>
              <a:rPr b="0" lang="el-GR" sz="3200" spc="-1" strike="noStrike">
                <a:solidFill>
                  <a:srgbClr val="000000"/>
                </a:solidFill>
                <a:latin typeface="Arial"/>
              </a:rPr>
              <a:t>ΝΑΙ ΤΟ </a:t>
            </a:r>
            <a:r>
              <a:rPr b="0" lang="en-US" sz="3200" spc="-1" strike="noStrike">
                <a:solidFill>
                  <a:srgbClr val="000000"/>
                </a:solidFill>
                <a:latin typeface="Arial"/>
              </a:rPr>
              <a:t>BLUETOOTH;</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Arial"/>
            </a:endParaRPr>
          </a:p>
        </p:txBody>
      </p:sp>
      <p:pic>
        <p:nvPicPr>
          <p:cNvPr id="146" name="Picture 9" descr="a"/>
          <p:cNvPicPr/>
          <p:nvPr/>
        </p:nvPicPr>
        <p:blipFill>
          <a:blip r:embed="rId1"/>
          <a:stretch/>
        </p:blipFill>
        <p:spPr>
          <a:xfrm>
            <a:off x="1116000" y="260280"/>
            <a:ext cx="6840720" cy="1152720"/>
          </a:xfrm>
          <a:prstGeom prst="rect">
            <a:avLst/>
          </a:prstGeom>
          <a:ln w="0">
            <a:noFill/>
          </a:ln>
        </p:spPr>
      </p:pic>
      <p:pic>
        <p:nvPicPr>
          <p:cNvPr id="147" name="Picture 10" descr="picon1"/>
          <p:cNvPicPr/>
          <p:nvPr/>
        </p:nvPicPr>
        <p:blipFill>
          <a:blip r:embed="rId2"/>
          <a:stretch/>
        </p:blipFill>
        <p:spPr>
          <a:xfrm>
            <a:off x="4932360" y="1600200"/>
            <a:ext cx="3816360" cy="2185920"/>
          </a:xfrm>
          <a:prstGeom prst="rect">
            <a:avLst/>
          </a:prstGeom>
          <a:ln w="0">
            <a:noFill/>
          </a:ln>
        </p:spPr>
      </p:pic>
      <p:pic>
        <p:nvPicPr>
          <p:cNvPr id="148" name="Picture 11" descr="imagesCANFRFQF"/>
          <p:cNvPicPr/>
          <p:nvPr/>
        </p:nvPicPr>
        <p:blipFill>
          <a:blip r:embed="rId3"/>
          <a:stretch/>
        </p:blipFill>
        <p:spPr>
          <a:xfrm>
            <a:off x="468360" y="4149720"/>
            <a:ext cx="4092480" cy="2100240"/>
          </a:xfrm>
          <a:prstGeom prst="rect">
            <a:avLst/>
          </a:prstGeom>
          <a:ln w="0">
            <a:noFill/>
          </a:ln>
        </p:spPr>
      </p:pic>
      <p:pic>
        <p:nvPicPr>
          <p:cNvPr id="149" name="Picture 12" descr="olzak_bluetooth_fig3"/>
          <p:cNvPicPr/>
          <p:nvPr/>
        </p:nvPicPr>
        <p:blipFill>
          <a:blip r:embed="rId4"/>
          <a:stretch/>
        </p:blipFill>
        <p:spPr>
          <a:xfrm>
            <a:off x="4932360" y="3860640"/>
            <a:ext cx="3816360" cy="2376720"/>
          </a:xfrm>
          <a:prstGeom prst="rect">
            <a:avLst/>
          </a:prstGeom>
          <a:ln w="0">
            <a:noFill/>
          </a:ln>
        </p:spPr>
      </p:pic>
      <p:pic>
        <p:nvPicPr>
          <p:cNvPr id="150" name="Picture 13" descr="picon2"/>
          <p:cNvPicPr/>
          <p:nvPr/>
        </p:nvPicPr>
        <p:blipFill>
          <a:blip r:embed="rId5"/>
          <a:stretch/>
        </p:blipFill>
        <p:spPr>
          <a:xfrm>
            <a:off x="468360" y="1628640"/>
            <a:ext cx="4105080" cy="244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Τα 'πρώτα βήματα' των Ασύρματων Δικτύων</a:t>
            </a:r>
            <a:endParaRPr b="0" lang="en-US" sz="4400" spc="-1" strike="noStrike">
              <a:solidFill>
                <a:srgbClr val="000000"/>
              </a:solidFill>
              <a:latin typeface="Arial"/>
            </a:endParaRPr>
          </a:p>
        </p:txBody>
      </p:sp>
      <p:sp>
        <p:nvSpPr>
          <p:cNvPr id="52" name=""/>
          <p:cNvSpPr txBox="1"/>
          <p:nvPr/>
        </p:nvSpPr>
        <p:spPr>
          <a:xfrm>
            <a:off x="468360" y="1412640"/>
            <a:ext cx="8229600" cy="5257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Τα πρώτα βήματα για μητροπολιτικά ασύρματα δίκτυα</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ιδέα για ασύρματα μητροπολιτικά δίκτυα στην χώρα μας γεννήθηκε σε ένα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λεκτρονικό τόπο δημόσιας συζήτησης (forum), από ένα μικρό αριθμ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νθρώπων που παρακολουθούσαν τις εξελίξεις. Εκείνο τον καιρό είχ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ημιουργηθεί στην Αυστραλία το Sidney wireless, ένα ασύρματο μητροπολιτικό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ίκτυο, το οποίο ήταν διαφορετικό από οποιοδήποτε άλλο παρόμοιας κλίμακας,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γιατί απλά δεν ήταν ένα εμπορικό δίκτυο και δεν πουλούσε ή προωθούσ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ίποτα μέσο αυτού. Είχε υλοποιηθεί από κοινούς ανθρώπους. Με λίγα λόγια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το δίκτυο αυτό, οι πολίτες τις πόλης έφτιαξαν ένα μεγάλο δίκτυο υπολογιστώ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ώντας την ασύρματη τεχνολογία. Ο σκοπός ήταν να καταφέρουν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καθαρά πειραματικά το δικό τους “Internet”, ασύρματα, ελεύθερα και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ελεγχόμενα από όλους χωρίς τότε φυσικά να μπορούν να φανταστούν τη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ημερινή κλίμακα.</a:t>
            </a: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195.251.240.254:8080/bitstream/handle/10184/806/asyrmata%20diktya.pdf?sequence=2</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ΤΡΟΠΟΣ ΧΡΗΣΗΣ </a:t>
            </a:r>
            <a:r>
              <a:rPr b="1"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52" name="PlaceHolder 2"/>
          <p:cNvSpPr>
            <a:spLocks noGrp="1"/>
          </p:cNvSpPr>
          <p:nvPr>
            <p:ph/>
          </p:nvPr>
        </p:nvSpPr>
        <p:spPr>
          <a:xfrm>
            <a:off x="456840" y="836640"/>
            <a:ext cx="7931160" cy="6021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συγκλίνουσα πορεία των τηλεπικοινωνιών έφερε στο προσκήνιο νέες μεθόδους διασύνδεσης και επικοινωνίας. Μια αρκετά κοινή εφαρμογή είναι η χρήση Bluetooth. Μάθετε τα μυστικά αυτής της τεχνολογίας, τα πλεονεκτήματα και όλα όσα θα πρέπει να προσέξετε για να μην ξεγελαστείτε από κακόβουλες επιθέσεις.</a:t>
            </a:r>
            <a:br>
              <a:rPr sz="1800"/>
            </a:br>
            <a:r>
              <a:rPr b="0" lang="el-GR" sz="1800" spc="-1" strike="noStrike">
                <a:solidFill>
                  <a:srgbClr val="000000"/>
                </a:solidFill>
                <a:latin typeface="Arial"/>
              </a:rPr>
              <a:t>Έχετε δει τον τελευταίο καιρό ανθρώπους να περπατούν και να μιλούν στο τηλέφωνο, ενώ αυτό είναι στην τσέπη ή στην τσάντα τους; Μήπως είστε και εσείς ένας από αυτούς; Η «μικρή» τεχνολογική καινοτομία που κρύβεται πίσω από αυτό είναι το πασίγνωστο, πλέον, Bluetooth (μπλου τουθ). </a:t>
            </a:r>
            <a:br>
              <a:rPr sz="1800"/>
            </a:br>
            <a:r>
              <a:rPr b="0" lang="el-GR" sz="1800" spc="-1" strike="noStrike">
                <a:solidFill>
                  <a:srgbClr val="000000"/>
                </a:solidFill>
                <a:latin typeface="Arial"/>
              </a:rPr>
              <a:t>Η τεχνολογία Bluetooth αποτελεί έναν από τους πολλούς τρόπους διασύνδεσης ηλεκτρονικών συσκευών. Αν για παράδειγμα, θέλουμε να συνδέσουμε την τηλεόρασή μας με τη συσκευή αναπαραγωγής DVD, θα πρέπει να βρούμε έναν τρόπο διασύνδεσης (που συνήθως είναι ένα καλώδιο το οποίο κρύβεται στο πίσω μέρος των δύο συσκευών). </a:t>
            </a:r>
            <a:br>
              <a:rPr sz="1800"/>
            </a:br>
            <a:r>
              <a:rPr b="0" lang="el-GR" sz="1800" spc="-1" strike="noStrike">
                <a:solidFill>
                  <a:srgbClr val="000000"/>
                </a:solidFill>
                <a:latin typeface="Arial"/>
              </a:rPr>
              <a:t>Το Bluetooth ανήκει στην κατηγορία των ασύρματων διασυνδέσεων, αυτών δηλαδή που δε χρειάζονται καλώδια, αλλά χρησιμοποιούν τη μετάδοση συχνοτήτων μέσω του αέρα.</a:t>
            </a:r>
            <a:br>
              <a:rPr sz="1800"/>
            </a:br>
            <a:r>
              <a:rPr b="0" lang="el-GR" sz="1800" spc="-1" strike="noStrike">
                <a:solidFill>
                  <a:srgbClr val="000000"/>
                </a:solidFill>
                <a:latin typeface="Arial"/>
              </a:rPr>
              <a:t>Στο προηγούμενο παράδειγμα του ανθρώπου που βλέπουμε στο δρόμο να μιλάει, αν προσέξουμε καλύτερα, είναι πιθανό να δούμε μια συσκευή ακουστικού/ μικρόφωνου προσαρμοσμένη στο αυτί του ομιλώντα και ένα κινητό τηλέφωνο σε μικρή απόσταση. </a:t>
            </a:r>
            <a:br>
              <a:rPr sz="1800"/>
            </a:br>
            <a:r>
              <a:rPr b="0" lang="el-GR" sz="1800" spc="-1" strike="noStrike">
                <a:solidFill>
                  <a:srgbClr val="000000"/>
                </a:solidFill>
                <a:latin typeface="Arial"/>
              </a:rPr>
              <a:t>Η διασύνδεση των δύο συσκευών γίνεται με τη βοήθεια της τεχνολογίας Bluetooth.</a:t>
            </a:r>
            <a:br>
              <a:rPr sz="1800"/>
            </a:br>
            <a:r>
              <a:rPr b="0" lang="el-GR" sz="1800" spc="-1" strike="noStrike">
                <a:solidFill>
                  <a:srgbClr val="000000"/>
                </a:solidFill>
                <a:latin typeface="Arial"/>
              </a:rPr>
              <a:t>Με παρόμοιο τρόπο μπορούν να συνδεθούν δύο κινητά και να ανταλλάξουν πληροφορίες, δύο ή περισσότεροι υπολογιστές και να διαμοιράσουν τους πόρους τους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Τι σημαίνει Bluetooth;</a:t>
            </a:r>
            <a:br>
              <a:rPr sz="4000"/>
            </a:br>
            <a:endParaRPr b="0" lang="en-US" sz="4000" spc="-1" strike="noStrike">
              <a:solidFill>
                <a:srgbClr val="000000"/>
              </a:solidFill>
              <a:latin typeface="Arial"/>
            </a:endParaRPr>
          </a:p>
        </p:txBody>
      </p:sp>
      <p:sp>
        <p:nvSpPr>
          <p:cNvPr id="15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όνομα προέρχεται από τον βασιλιά της Δανίας, κατά τον 9ο αιώνα, Harald Bluetooth. Υπάρχουν δύο λόγοι για τους οποίους η συγκεκριμένη τεχνολογία πήρε το όνομά του. Ο πρώτος είναι για να τιμηθεί η προσπάθειά του να ενώσει τις σκανδιναβικές χώρες με το τότε βασίλειο της Δανίας. Ο δεύτερος λόγος έχει να κάνει με τη μεγάλη επιρροή που έχουν οι σύγχρονες σκανδιναβικές εταιρίες τηλεπικοινωνιών (Ericsson, Nokia κλπ)</a:t>
            </a:r>
            <a:endParaRPr b="0" lang="en-US" sz="2000" spc="-1" strike="noStrike">
              <a:solidFill>
                <a:srgbClr val="000000"/>
              </a:solidFill>
              <a:latin typeface="Arial"/>
            </a:endParaRPr>
          </a:p>
        </p:txBody>
      </p:sp>
      <p:pic>
        <p:nvPicPr>
          <p:cNvPr id="155" name="Picture 7" descr="olzak_bluetooth_fig3"/>
          <p:cNvPicPr/>
          <p:nvPr/>
        </p:nvPicPr>
        <p:blipFill>
          <a:blip r:embed="rId1"/>
          <a:stretch/>
        </p:blipFill>
        <p:spPr>
          <a:xfrm>
            <a:off x="4648320" y="176544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80" y="549360"/>
            <a:ext cx="85075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Arial"/>
              </a:rPr>
              <a:t>Πώς</a:t>
            </a:r>
            <a:r>
              <a:rPr b="0" lang="el-GR" sz="4000" spc="-1" strike="noStrike">
                <a:solidFill>
                  <a:srgbClr val="000000"/>
                </a:solidFill>
                <a:latin typeface="Arial"/>
              </a:rPr>
              <a:t> </a:t>
            </a:r>
            <a:r>
              <a:rPr b="1" lang="el-GR" sz="4000" spc="-1" strike="noStrike">
                <a:solidFill>
                  <a:srgbClr val="000000"/>
                </a:solidFill>
                <a:latin typeface="Arial"/>
              </a:rPr>
              <a:t>λειτουργεί;</a:t>
            </a:r>
            <a:br>
              <a:rPr sz="4000"/>
            </a:br>
            <a:endParaRPr b="0" lang="en-US" sz="4000" spc="-1" strike="noStrike">
              <a:solidFill>
                <a:srgbClr val="000000"/>
              </a:solidFill>
              <a:latin typeface="Arial"/>
            </a:endParaRPr>
          </a:p>
        </p:txBody>
      </p:sp>
      <p:sp>
        <p:nvSpPr>
          <p:cNvPr id="157" name="PlaceHolder 2"/>
          <p:cNvSpPr>
            <a:spLocks noGrp="1"/>
          </p:cNvSpPr>
          <p:nvPr>
            <p:ph/>
          </p:nvPr>
        </p:nvSpPr>
        <p:spPr>
          <a:xfrm>
            <a:off x="468360" y="1125360"/>
            <a:ext cx="8229600" cy="5112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ς δούμε τον τρόπο λειτουργίας του Bluetooth. Ας υποθέσουμε ότι δύο συσκευές είναι έτοιμες να συνδεθούν. Αρχικά υπάρχουν κάποια προβλήματα που χρειάζεται να αντιμετωπιστούν. Το πρώτο ερώτημα που θα τεθεί είναι το μέσο που θα χρησιμοποιηθεί για να γίνει η σύνδεση. Επίσης, θα πρέπει να αποφασιστεί η μορφή της πληροφορίας που θα μεταδοθεί αλλά και η ταχύτητα μετάδοσης. Ο τρόπος επικοινωνίας συχνά αποκαλείται πρωτόκολλο και είναι αυτός που θέτει τους κανόνες που πρέπει να τηρούνται κατά τη διάρκεια της επικοινωνίας.  </a:t>
            </a:r>
            <a:br>
              <a:rPr sz="1800"/>
            </a:br>
            <a:r>
              <a:rPr b="0" lang="el-GR" sz="1800" spc="-1" strike="noStrike">
                <a:solidFill>
                  <a:srgbClr val="000000"/>
                </a:solidFill>
                <a:latin typeface="Arial"/>
              </a:rPr>
              <a:t>Ξεκινώντας μια σύνδεση Bluetooth, ορίζεται σαν μέσο επικοινωνίας ο αέρας, αφού τα σήματα μεταφέρονται μέσω αυτού. Οι κανονισμοί τέτοιου είδους επικοινωνίας προδιαγράφουν τη μορφή του σήματος, την ταχύτητα και το χρονισμό της μετάδοσης. </a:t>
            </a:r>
            <a:br>
              <a:rPr sz="1800"/>
            </a:br>
            <a:r>
              <a:rPr b="0" lang="el-GR" sz="1800" spc="-1" strike="noStrike">
                <a:solidFill>
                  <a:srgbClr val="000000"/>
                </a:solidFill>
                <a:latin typeface="Arial"/>
              </a:rPr>
              <a:t>Η μετάδοση σήματος Bluetooth είναι χαμηλής ισχύος και γίνεται στην περιοχή συχνοτήτων των 2,4GHz (δηλαδή 2.4 δις κύκλους ανά δευτερόλεπτο). Ας υποθέσουμε ότι βρίσκεστε σε ένα λεωφορείο και δίπλα σας κάθεται κάποιος που συνομιλεί με το κινητό του μέσω της συσκευής Bluetooth. Ακριβώς μπροστά σας κάθεται κάποιος άλλος συνεπιβάτης, ο οποίος κάνει ακριβώς το ίδιο πράγμα. Μάλιστα, οι δύο συνεπιβάτες σας μπορεί να έχουν ακριβώς τις ίδιες συσκευές τηλεφώνου. Μπορεί ο ένας συνεπιβάτης σας να ακούσει τη συνομιλία του άλλου; Η απάντηση είναι όχι. Πώς όμως γίνεται αυτό αφού η μετάδοση του σήματος φτάνει από τη μία άκρη του λεωφορείου έως την άλλη; Και πώς γίνεται να μην παρεμβάλλεται κάποιος που βρίσκεται σε μικρή απόσταση εκτός λεωφορείου;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ΛΕΙΤΟΥΡΓΙΑ </a:t>
            </a:r>
            <a:r>
              <a:rPr b="0"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59" name="PlaceHolder 2"/>
          <p:cNvSpPr>
            <a:spLocks noGrp="1"/>
          </p:cNvSpPr>
          <p:nvPr>
            <p:ph/>
          </p:nvPr>
        </p:nvSpPr>
        <p:spPr>
          <a:xfrm>
            <a:off x="468360" y="620280"/>
            <a:ext cx="8229600" cy="5937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ρχικά, λόγω της χαμηλής ισχύος μετάδοσης, οι δύο συσκευές πρέπει να βρίσκονται σε σχετικά μικρή απόσταση, φιλτράροντας, έτσι, άλλες απομακρυσμένες εκπομπές. Η ισχύς εκπομπής από το κινητό προς το ακουστικό είναι 0,1watt, σε αντίθεση με τα κινητά τηλέφωνα, που εκπέμπουν 3Watt για την επικοινωνία τους με την τοπική κεραία. Η μετάδοση Bluetooth βασίζεται στην τεχνολογία διευρυμένου φάσματος με άλματα συχνότητας (spread-spectrum frequency hopping). Το χαρακτηριστικό αυτής της μεθόδου είναι ότι μεταδίδει το σήμα, όχι με σταθερή συχνότητα, αλλά «πηδώντας» από τη μία συχνότητα στην άλλη, καλύπτοντας ένα φάσμα 79 διαφορετικών, «τυχαία» επιλεγμένων συχνοτήτων στην ευρύτερη περιοχή των 2,4GHz.</a:t>
            </a:r>
            <a:br>
              <a:rPr sz="1800"/>
            </a:br>
            <a:r>
              <a:rPr b="0" lang="el-GR" sz="1800" spc="-1" strike="noStrike">
                <a:solidFill>
                  <a:srgbClr val="000000"/>
                </a:solidFill>
                <a:latin typeface="Arial"/>
              </a:rPr>
              <a:t>Με αυτή την τεχνική, επιτυγχάνεται σύνδεση των δύο συσκευών σε συχνότητα που αλλάζει 1600 φορές το δευτερόλεπτο. Αυτό κάνει εξαιρετικά απίθανο, έως αδύνατο, να συμπέσουν δύο μεταδόσεις. Ακόμα όμως και αν γίνει αυτό κατά τη διάρκεια μιας σύντομης μετάδοσης (διάρκειας 1/1600 δευτερολέπτου), είναι απίθανο η επόμενη μετάδοση να είναι και αυτή στην ίδια συχνότητα. Καταλαβαίνουμε λοιπόν, γιατί δεν υπάρχει παρεμβολή από γειτονικές συσκευές, πράγμα που κάνει τη συγκεκριμένη μετάδοση πολύ αξιόπιστη. Στην αναπαράσταση που ακολουθεί βλέπουμε μια διαγραμματική απεικόνιση της ταχύτατης μεταβολής της συχνότητας. Δύο συσκευές που επικοινωνούν, στέλνουν και λαμβάνουν σήμα στην ίδια ακριβώς συχνότητα που δείχνει το «μπλε στίγμα» του διαγράμματος. Άρα υπάρχει απόλυτος συγχρονισμός. Για να προκληθεί παρεμβολή (η υποκλοπή) από μια άλλη συσκευή, θα πρέπει το δικό της «μπλε στίγμα» να εμφανίζεται και αυτό στις ίδιες θέσεις που εμφανίζεται το στίγμα των άλλων δύο.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25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000000"/>
              </a:solidFill>
              <a:latin typeface="Arial"/>
            </a:endParaRPr>
          </a:p>
        </p:txBody>
      </p:sp>
      <p:sp>
        <p:nvSpPr>
          <p:cNvPr id="161" name="PlaceHolder 2"/>
          <p:cNvSpPr>
            <a:spLocks noGrp="1"/>
          </p:cNvSpPr>
          <p:nvPr>
            <p:ph/>
          </p:nvPr>
        </p:nvSpPr>
        <p:spPr>
          <a:xfrm>
            <a:off x="539280" y="2276640"/>
            <a:ext cx="8075880" cy="3744720"/>
          </a:xfrm>
          <a:prstGeom prst="rect">
            <a:avLst/>
          </a:prstGeom>
          <a:noFill/>
          <a:ln w="0">
            <a:noFill/>
          </a:ln>
        </p:spPr>
        <p:txBody>
          <a:bodyPr anchor="t">
            <a:normAutofit fontScale="85000"/>
          </a:bodyPr>
          <a:p>
            <a:pPr marL="291600" indent="-29160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Από τα παραπάνω φαίνεται ότι για να επικοινωνήσουν δύο συσκευές μεταξύ τους, θα πρέπει να κάνουν ότι περιγράψαμε ως αδύνατο στην προηγούμενη παράγραφο. Δηλαδή, η μετάβαση από συχνότητα σε συχνότητα να είναι ακριβώς η ίδια. Πώς όμως η μια συσκευή γνωρίζει που θα εκπέμπει η άλλη (και αντίστροφα); </a:t>
            </a:r>
            <a:br>
              <a:rPr sz="1400"/>
            </a:br>
            <a:r>
              <a:rPr b="0" lang="el-GR" sz="1400" spc="-1" strike="noStrike">
                <a:solidFill>
                  <a:srgbClr val="000000"/>
                </a:solidFill>
                <a:latin typeface="Comic Sans MS"/>
              </a:rPr>
              <a:t>Αυτό αποφασίζεται στην αρχή της συνομιλίας, όταν οι δύο συσκευές «μοιράζονται» το μυστικό, που αποκαλείται λέξη κλειδί. Η πληροφορία αυτή βοηθάει το συγχρονισμό, αλλά παραμένει άγνωστη σε άλλες συσκευές που δε λαμβάνουν μέρος στη συνομιλία.</a:t>
            </a:r>
            <a:br>
              <a:rPr sz="1400"/>
            </a:br>
            <a:r>
              <a:rPr b="0" lang="el-GR" sz="1400" spc="-1" strike="noStrike">
                <a:solidFill>
                  <a:srgbClr val="000000"/>
                </a:solidFill>
                <a:latin typeface="Comic Sans MS"/>
              </a:rPr>
              <a:t>Αν λοιπόν, δείτε στην οθόνη του κινητού σας μια ένδειξη ότι κάποιος προσπαθεί να συνδεθεί μαζί σας μέσω Bluetooth, ουσιαστικά η συσκευή του ζητάει τη λέξη κλειδί, ώστε να αρχίσει η μετάδοση. Αν θέλετε να δείτε μια προσέγγιση αναπαράστασης της επικοινωνίας δύο συσκευών μπορείτε να δείτε το επόμενο διάγραμμα. Μη ξεχνάτε ότι η πραγματική ταχύτητα είναι 50 φορές υψηλότερη.</a:t>
            </a:r>
            <a:br>
              <a:rPr sz="1400"/>
            </a:br>
            <a:r>
              <a:rPr b="0" lang="el-GR" sz="1400" spc="-1" strike="noStrike">
                <a:solidFill>
                  <a:srgbClr val="000000"/>
                </a:solidFill>
                <a:latin typeface="Comic Sans MS"/>
              </a:rPr>
              <a:t>Ένα σημαντικό χαρακτηριστικό της μετάδοσης μέσω Bluetooth είναι ότι δεν απαιτείται η ευθυγράμμιση των συσκευών, ώστε να «βλέπει» η μία την άλλη. Η μετάδοση Bluetooth είναι ικανή να διαπεράσει τα φυσικά εμπόδια που παρεμβάλλονται (όπως ο τοίχος του σπιτιού ή το περίβλημα μιας τσάντας). </a:t>
            </a:r>
            <a:br>
              <a:rPr sz="1400"/>
            </a:br>
            <a:r>
              <a:rPr b="0" lang="el-GR" sz="1400" spc="-1" strike="noStrike">
                <a:solidFill>
                  <a:srgbClr val="000000"/>
                </a:solidFill>
                <a:latin typeface="Comic Sans MS"/>
              </a:rPr>
              <a:t>Αυτό δε συμβαίνει με άλλες τεχνολογίες. Για παράδειγμα, το τηλεχειριστήριο της τηλεόρασής μας, που χρησιμοποιεί υπέρυθρες ακτίνες, θα πρέπει να ευθυγραμμιστεί με την τηλεόραση μας για να μεταδώσει το σήμα του. Ένα ακόμα σημαντικό χαρακτηριστικό της τεχνολογίας Bluetooth, είναι ότι μπορεί να επικοινωνεί μέχρι και με 8 συσκευές, ταυτόχρονα. Είναι πιθανό να ακούσετε τον όρο pico-δίκτυο που δεν είναι τίποτα άλλο από τη διασύνδεση πολλών συσκευών μέσω της τεχνολογίας Bluetooth (μικρογραφία ενός τοπικού δικτύου, LAN). Σε ένα τέτοιο δίκτυο πραγματοποιείται αυτόματα συγχρονισμός των μεταδόσεων, ώστε να μην υπάρχει παρεμβολή από συσκευές εκτός δικτύου ή άλλα δίκτυα.</a:t>
            </a:r>
            <a:br>
              <a:rPr sz="1400"/>
            </a:br>
            <a:r>
              <a:rPr b="0" lang="el-GR" sz="1400" spc="-1" strike="noStrike">
                <a:solidFill>
                  <a:srgbClr val="000000"/>
                </a:solidFill>
                <a:latin typeface="Comic Sans MS"/>
              </a:rPr>
              <a:t>Αξίζει να σημειωθεί ότι ο ρυθμός μετάδοσης των πληροφοριών μέσω Bluetooth φτάνει τα 3Μbps.</a:t>
            </a:r>
            <a:br>
              <a:rPr sz="1400"/>
            </a:br>
            <a:br>
              <a:rPr sz="1800"/>
            </a:br>
            <a:r>
              <a:rPr b="0" lang="el-GR" sz="1800" spc="-1" strike="noStrike">
                <a:solidFill>
                  <a:srgbClr val="000000"/>
                </a:solidFill>
                <a:latin typeface="Comic Sans MS"/>
              </a:rPr>
              <a:t> </a:t>
            </a:r>
            <a:endParaRPr b="0" lang="en-US" sz="1800" spc="-1" strike="noStrike">
              <a:solidFill>
                <a:srgbClr val="000000"/>
              </a:solidFill>
              <a:latin typeface="Arial"/>
            </a:endParaRPr>
          </a:p>
        </p:txBody>
      </p:sp>
      <p:pic>
        <p:nvPicPr>
          <p:cNvPr id="162" name="Picture 7" descr="picon1"/>
          <p:cNvPicPr/>
          <p:nvPr/>
        </p:nvPicPr>
        <p:blipFill>
          <a:blip r:embed="rId1"/>
          <a:stretch/>
        </p:blipFill>
        <p:spPr>
          <a:xfrm>
            <a:off x="468360" y="189000"/>
            <a:ext cx="8280360" cy="2087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333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Πόσο ασφαλής είναι η μετάδοση;</a:t>
            </a:r>
            <a:br>
              <a:rPr sz="3200"/>
            </a:br>
            <a:endParaRPr b="0" lang="en-US" sz="3200" spc="-1" strike="noStrike">
              <a:solidFill>
                <a:srgbClr val="000000"/>
              </a:solidFill>
              <a:latin typeface="Arial"/>
            </a:endParaRPr>
          </a:p>
        </p:txBody>
      </p:sp>
      <p:sp>
        <p:nvSpPr>
          <p:cNvPr id="164" name="PlaceHolder 2"/>
          <p:cNvSpPr>
            <a:spLocks noGrp="1"/>
          </p:cNvSpPr>
          <p:nvPr>
            <p:ph/>
          </p:nvPr>
        </p:nvSpPr>
        <p:spPr>
          <a:xfrm>
            <a:off x="468360" y="1773000"/>
            <a:ext cx="8229600" cy="4824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σφάλεια των πληροφοριών είναι ένα πολύ σημαντικό ζήτημα, ειδικότερα όταν η μετάδοση γίνεται μέσω ραδιοφωνικών συχνοτήτων. </a:t>
            </a:r>
            <a:br>
              <a:rPr sz="1800"/>
            </a:br>
            <a:r>
              <a:rPr b="0" lang="el-GR" sz="1800" spc="-1" strike="noStrike">
                <a:solidFill>
                  <a:srgbClr val="000000"/>
                </a:solidFill>
                <a:latin typeface="Arial"/>
              </a:rPr>
              <a:t>Η ασφάλεια της επικοινωνίας καθορίζεται, είτε από το επίπεδο υπηρεσίας (π.χ. της ανταλλαγής γραπτών μηνυμάτων), είτε από την ασφάλεια σε επίπεδο συσκευής (π.χ. της συνεχούς επικοινωνίας με συσκευή hands-free).</a:t>
            </a:r>
            <a:br>
              <a:rPr sz="1800"/>
            </a:br>
            <a:r>
              <a:rPr b="0" lang="el-GR" sz="1800" spc="-1" strike="noStrike">
                <a:solidFill>
                  <a:srgbClr val="000000"/>
                </a:solidFill>
                <a:latin typeface="Arial"/>
              </a:rPr>
              <a:t>Η ανάλυση των παραπάνω πληροφοριών μπορεί να επεκταθεί αρκετά, ξεπερνώντας τα όρια του συγκεκριμένου άρθρου.</a:t>
            </a:r>
            <a:br>
              <a:rPr sz="1800"/>
            </a:br>
            <a:r>
              <a:rPr b="0" lang="el-GR" sz="1800" spc="-1" strike="noStrike">
                <a:solidFill>
                  <a:srgbClr val="000000"/>
                </a:solidFill>
                <a:latin typeface="Arial"/>
              </a:rPr>
              <a:t>Μια τακτική που πρέπει να έχετε κατά νου, είναι να μην επιτρέπετε πρόσβαση από αγνώστους στις συσκευές σας. Τα τελευταία χρόνια με την εξέλιξη των συσκευών κινητής τηλεφωνίας εξελίχθηκαν και κακόβουλες εφαρμογές (ιοί). Για να μεταφερθεί μια κακόβουλη εφαρμογή πρέπει να δοθεί συγκατάθεση του χρήστη. Καλό λοιπόν είναι να προσέχετε, όταν επιτρέπετε ελεύθερη πρόσβαση σε αγνώστους.</a:t>
            </a:r>
            <a:br>
              <a:rPr sz="1800"/>
            </a:br>
            <a:r>
              <a:rPr b="0" lang="el-GR" sz="1800" spc="-1" strike="noStrike">
                <a:solidFill>
                  <a:srgbClr val="000000"/>
                </a:solidFill>
                <a:latin typeface="Arial"/>
              </a:rPr>
              <a:t>Γίνονται ολοένα και γνωστότερα, προβλήματα όπως το "blue jacking" όπου ο χρήστης δέχεται μια επαφή (με στοιχεία ταυτότητας) η οποία αυτόματα εισάγεται στον κατάλογο του κινητού του. Αυτό μετατρέπει τον αποστολέα σε γνωστό χρήστη, άρα του δίνει ευκολότερη πρόσβαση στη συγκεκριμένη συσκευή. Επίσης, η επίθεση "blue bugging", με την οποία ο εισβολέας αποκτά πρόσβαση σε υπηρεσίες όπως γραπτά μηνύματα, κλήσεις κλ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ΕΙΝΑΙ ΕΠΙΒΛΑΒΕΣ ΓΙΑ ΤΗΝ ΥΓΕΙΑ ΜΑΣ</a:t>
            </a:r>
            <a:r>
              <a:rPr b="0" lang="el-GR" sz="4000" spc="-1" strike="noStrike">
                <a:solidFill>
                  <a:srgbClr val="000000"/>
                </a:solidFill>
                <a:latin typeface="Arial"/>
              </a:rPr>
              <a:t> </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τεχνολογία Bluetooth βασίζεται στη μετάδοση μικροκυμάτων στην περιοχή των 2.4GHz. Άρα, όσοι βρισκόμαστε σε κοντινή απόσταση από ένα πομπό Bluetooth είμαστε εκτεθειμένοι.</a:t>
            </a:r>
            <a:br>
              <a:rPr sz="1600"/>
            </a:br>
            <a:r>
              <a:rPr b="0" lang="el-GR" sz="1600" spc="-1" strike="noStrike">
                <a:solidFill>
                  <a:srgbClr val="000000"/>
                </a:solidFill>
                <a:latin typeface="Arial"/>
              </a:rPr>
              <a:t>Σε σχέση με άλλες ασύρματες τεχνολογίες, το Bluetooth έχει αρκετά χαμηλή ισχύ. Βέβαια, υπάρχουν συσκευές Bluetooth που ανάλογα με την «κλάση» στην οποία κατηγοριοποιούνται εκπέμπουν ισχυρότερα σήματα. Οι συσκευές «κλάσης 1» εκπέμπουν την ίδια ισχύ με τις συσκευές κινητής τηλεφωνίας. Τέτοιες συσκευές είναι, συνήθως, δέκτες που επιτυγχάνουν συνδέσεις μέχρι και σε 100 μέτρα απόσταση. Οι υπόλοιπες «κλάσεις» θεωρούνται λιγότερο επιβλαβείς από τα κινητά τηλέφωνα. </a:t>
            </a:r>
            <a:br>
              <a:rPr sz="1600"/>
            </a:br>
            <a:r>
              <a:rPr b="0" lang="el-GR" sz="1600" spc="-1" strike="noStrike">
                <a:solidFill>
                  <a:srgbClr val="000000"/>
                </a:solidFill>
                <a:latin typeface="Arial"/>
              </a:rPr>
              <a:t>Βεβαίως, τα μακροπρόθεσμα αποτελέσματα έκθεσης σε οποιοδήποτε είδους ραδιοφωνικής μετάδοσης, δεν είναι ακόμα ξεκάθαρα. Καλό θα είναι οι χρήστες να χρησιμοποιούν με σύνεση και μέτρο τέτοιου είδους τεχνολογίες και ειδικότερα τα παιδιά και οι έγκυες γυναίκες. Είναι το Bluetooth το ίδιο με το WiFi; Αν και η τεχνολογία είναι παρόμοια, οι εφαρμογές διαφέρουν με την τεχνολογία WiFi να κυριαρχεί στη δικτύωση ευρύτερων δικτύων υπολογιστών, παρουσιάζοντας αναλογία με τα παραδοσιακά τοπικά δίκτυα LAN. Τα δίκτυα WiFi είναι δυσκολότερα στη δημιουργία, αλλά δίνουν τη δυνατότητα διασύνδεσης περισσότερων πόρων, η σύνδεση είναι ταχύτατη και, τόσο η κάλυψη όσο και η ασφάλεια, είναι σαφώς ανώτερες από αυτές του Bluetooth.Bluetooth 3.0 Η εξέλιξη του Bluetooth θα παρέχει στους χρήστες δυνατότητες διασύνδεσης σε πολύ μεγάλη ακτίνα (Ultra Wide Band) και θα λειτουργεί με πολύ υψηλές ταχύτητες μεταφοράς (480Mbps), διατηρώντας παράλληλα το χαρακτηριστικό της χαμηλής ισχύος εκπομπής.</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Arial"/>
              </a:rPr>
              <a:t>http://www.explain.gr/index.php/2009-12-24-19-42-17/66--bluetooth</a:t>
            </a:r>
            <a:r>
              <a:rPr b="0" lang="el-GR"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ΦΑΡΜΟΓΕΣ </a:t>
            </a:r>
            <a:r>
              <a:rPr b="0" lang="en-US" sz="4000" spc="-1" strike="noStrike">
                <a:solidFill>
                  <a:srgbClr val="000000"/>
                </a:solidFill>
                <a:latin typeface="Arial"/>
              </a:rPr>
              <a:t>BLUETOOTH</a:t>
            </a:r>
            <a:endParaRPr b="0" lang="en-US" sz="4000" spc="-1" strike="noStrike">
              <a:solidFill>
                <a:srgbClr val="000000"/>
              </a:solidFill>
              <a:latin typeface="Arial"/>
            </a:endParaRPr>
          </a:p>
        </p:txBody>
      </p:sp>
      <p:sp>
        <p:nvSpPr>
          <p:cNvPr id="168"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Bluetooth έχει πάρα πολλές εφαρμογές, με πιο δημοφιλή την εφαρμογή σε κινητά τηλέφωνα, για παράδειγμα την ανταλλαγή αρχείων, φωτογραφιών και βίντεο ή την χρήση ασύρματων ακουστικών. Το Bluetooth όμως δεν χρησιμοποιείται μόνο στα κινητά τηλέφωνα. Υπολογιστές παλάμης, ψηφιακές κάμερες, mp3 players, φορητοί και σταθεροί υπολογιστές και πολλές άλλες συσκευές κάνουν χρήση της τεχνολογίας Bluetooth για να επικοινωνούν σε μικρή απόσταση χωρίς την χρήση ενοχλητικών καλωδίων. </a:t>
            </a:r>
            <a:br>
              <a:rPr sz="1800"/>
            </a:br>
            <a:br>
              <a:rPr sz="1800"/>
            </a:br>
            <a:r>
              <a:rPr b="0" lang="el-GR" sz="1800" spc="-1" strike="noStrike">
                <a:solidFill>
                  <a:srgbClr val="000000"/>
                </a:solidFill>
                <a:latin typeface="Arial"/>
              </a:rPr>
              <a:t>Το Bluetooth έγινε ιδιαίτερα δημοφιλές και αναπόσπαστο στοιχείο σε αρκετά ηλεκτρονικά προϊόντα, καθώς ουσιαστικά αντικατέστησε τα καλώδια που παλαιότερα ήταν απαιτούμενα για την διασύνδεση των διαφόρων συσκευών. Επίσης, το Bluetooth νίκησε εκτός από τα καλώδια, μια προηγούμενη ασύρματη τεχνολογία επικοινωνίας, τις υπέρυθρες ακτίνες (IrDA). Όλοι θυμόμαστε κινητά προηγούμενης γενιάς τα οποία ήταν εξοπλισμένα με μια θύρα υπέρυθρης επικοινωνίας. Το μειονέκτημα των υπέρυθρων ήταν ότι για να επιτευχθεί σύνδεση μεταξύ δύο συσκευών, θα έπρεπε να είναι δίπλα η μία με την άλλη, έχοντας αντικριστά τις υπέρυθρες θύρες επικοινωνίας τους. Εκεί δεν θα έπρεπε να παρεμβάλλεται κάποιο αντικείμενο ανάμεσα στις θύρες υπέρυθρης επικοινωνίας, διαφορετικά δεν μπορούσε να επιτευχθεί σύνδεση. Το Bluetooth, όχι μόνο δίνει την ελευθερία σε δύο συσκευές να βρίσκονται όπου θέλουν μέσα σε μια ακτίνα περίπου 10 μέτρων, αλλά δεν υπάρχει και κάποιο πρόβλημα παρεμβολής αντικειμένων ανάμεσά τους.</a:t>
            </a:r>
            <a:br>
              <a:rPr sz="1800"/>
            </a:br>
            <a:r>
              <a:rPr b="0" lang="el-GR" sz="1800" spc="-1" strike="noStrike" u="sng">
                <a:solidFill>
                  <a:srgbClr val="000000"/>
                </a:solidFill>
                <a:uFillTx/>
                <a:latin typeface="Arial"/>
              </a:rPr>
              <a:t>http://www.rotise.gr/arthra/emfanisi/ti-einai-to-bluetooth.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ΠΗΓΕΣ ΠΛΗΡΟΦΟΡΙΩΝ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http://www.rotise.gr/arthra/emfanisi/ti-einai-to-bluetooth.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http://www.explain.gr/index.php/2009-12-24-19-42-17/66--bluetoot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905120"/>
            <a:ext cx="858384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ΕΡΓΑΣΙΑ ΑΣΥΡΜΑΤΑ ΔΙΚΤΥΑ</a:t>
            </a:r>
            <a:br>
              <a:rPr sz="3200"/>
            </a:br>
            <a:r>
              <a:rPr b="0" lang="el-GR" sz="3200" spc="-1" strike="noStrike">
                <a:solidFill>
                  <a:srgbClr val="000000"/>
                </a:solidFill>
                <a:latin typeface="Arial"/>
              </a:rPr>
              <a:t>                    ΟΜΑΔΑ 3</a:t>
            </a:r>
            <a:br>
              <a:rPr sz="3200"/>
            </a:br>
            <a:r>
              <a:rPr b="0" lang="el-GR" sz="3200" spc="-1" strike="noStrike">
                <a:solidFill>
                  <a:srgbClr val="000000"/>
                </a:solidFill>
                <a:latin typeface="Arial"/>
              </a:rPr>
              <a:t>       ΧΑΪΔΕΜΕΝΟΣ ΓΙΩΡΓΟΣ ΒΠ</a:t>
            </a:r>
            <a:endParaRPr b="0" lang="en-US" sz="3200" spc="-1" strike="noStrike">
              <a:solidFill>
                <a:srgbClr val="000000"/>
              </a:solidFill>
              <a:latin typeface="Arial"/>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ειονεκτήματα των ασύρματων       δικτύων</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3 - Εικόνα" descr="wireless-network.jpg"/>
          <p:cNvPicPr/>
          <p:nvPr/>
        </p:nvPicPr>
        <p:blipFill>
          <a:blip r:embed="rId1"/>
          <a:stretch/>
        </p:blipFill>
        <p:spPr>
          <a:xfrm>
            <a:off x="-6480" y="-6480"/>
            <a:ext cx="9156960" cy="6870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Δίκτυα 1ης,2ης &amp; 3ης Γενιάς</a:t>
            </a:r>
            <a:endParaRPr b="0" lang="en-US" sz="4400" spc="-1" strike="noStrike">
              <a:solidFill>
                <a:srgbClr val="000000"/>
              </a:solidFill>
              <a:latin typeface="Arial"/>
            </a:endParaRPr>
          </a:p>
        </p:txBody>
      </p:sp>
      <p:sp>
        <p:nvSpPr>
          <p:cNvPr id="55" name=""/>
          <p:cNvSpPr txBox="1"/>
          <p:nvPr/>
        </p:nvSpPr>
        <p:spPr>
          <a:xfrm>
            <a:off x="468360" y="1557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πρώτη γενιά ασύρματων δικτύων χρησιμοποιούσε την περιοχή των 900-928MHz για βιομηχανική και ιατρική χρήση. Τα δίκτυα αυτά πετύχαιναν ταχύτητες διαμεταγωγής δεδομένων μέχρι 500Kbp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Η δεύτερη γενιά της ασύρματης τεχνολογίας περιλαμβάνει το πρότυπο 802.11, το οποίο δημιουργήθηκε τον Ιούνιο του 1997. Το πρότυπο αυτό χρησιμοποιεί την περιοχή ραδιοσυχνοτήτων 2.400-2.483MHz και προσφέρει ταχύτητα μεταφοράς δεδομένων 2Mbp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ν Ιούλιο του 1999 δημιουργήθηκε το πρότυπο 802.11b γνωστό και ως Wi-Fi. Το πρότυπο αυτό ανήκει στην τρίτη γενιά των ασύρματων δικτύων, εκπέμπει στην περιοχή 2.400-2.483,5MHz και προσφέρει ονομαστική ταχύτητα 11Mbps. Είναι το πρότυπο που κατά κύριο λόγο χρησιμοποιείται σήμερα στα περισσότερα ασύρματα δίκτυα.</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200" spc="-1" strike="noStrike">
                <a:solidFill>
                  <a:srgbClr val="000000"/>
                </a:solidFill>
                <a:latin typeface="Arial"/>
              </a:rPr>
              <a:t>(</a:t>
            </a:r>
            <a:r>
              <a:rPr b="0" lang="el-GR" sz="1200" spc="-1" strike="noStrike" u="sng">
                <a:solidFill>
                  <a:srgbClr val="009999"/>
                </a:solidFill>
                <a:uFillTx/>
                <a:latin typeface="Arial"/>
                <a:hlinkClick r:id="rId2"/>
              </a:rPr>
              <a:t>http://conta.uom.gr/conta/ekpaideysh/metaptyxiaka/technologies_diktywn/ergasies/2005/Educational%20software%20of%20self-teaching%20of%20Protocols%20for%20Wireless%20Networks.pdf</a:t>
            </a:r>
            <a:r>
              <a:rPr b="0" i="1" lang="el-GR"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ΣΥΡΜΑΤΑ ΔΙΚΤΥΑ</a:t>
            </a:r>
            <a:endParaRPr b="0" lang="en-US" sz="4400" spc="-1" strike="noStrike">
              <a:solidFill>
                <a:srgbClr val="000000"/>
              </a:solidFill>
              <a:latin typeface="Arial"/>
            </a:endParaRPr>
          </a:p>
        </p:txBody>
      </p:sp>
      <p:pic>
        <p:nvPicPr>
          <p:cNvPr id="174" name="Picture 9" descr="wifi"/>
          <p:cNvPicPr/>
          <p:nvPr/>
        </p:nvPicPr>
        <p:blipFill>
          <a:blip r:embed="rId1"/>
          <a:stretch/>
        </p:blipFill>
        <p:spPr>
          <a:xfrm>
            <a:off x="1343160" y="1905120"/>
            <a:ext cx="2917800" cy="2019240"/>
          </a:xfrm>
          <a:prstGeom prst="rect">
            <a:avLst/>
          </a:prstGeom>
          <a:ln w="0">
            <a:noFill/>
          </a:ln>
        </p:spPr>
      </p:pic>
      <p:pic>
        <p:nvPicPr>
          <p:cNvPr id="175" name="Picture 10" descr="Wireless_access_point"/>
          <p:cNvPicPr/>
          <p:nvPr/>
        </p:nvPicPr>
        <p:blipFill>
          <a:blip r:embed="rId2"/>
          <a:stretch/>
        </p:blipFill>
        <p:spPr>
          <a:xfrm>
            <a:off x="4500720" y="2048040"/>
            <a:ext cx="3958920" cy="2028600"/>
          </a:xfrm>
          <a:prstGeom prst="rect">
            <a:avLst/>
          </a:prstGeom>
          <a:ln w="0">
            <a:noFill/>
          </a:ln>
        </p:spPr>
      </p:pic>
      <p:pic>
        <p:nvPicPr>
          <p:cNvPr id="176" name="Picture 11" descr="wireless-network-1a"/>
          <p:cNvPicPr/>
          <p:nvPr/>
        </p:nvPicPr>
        <p:blipFill>
          <a:blip r:embed="rId3"/>
          <a:stretch/>
        </p:blipFill>
        <p:spPr>
          <a:xfrm>
            <a:off x="1287360" y="4076640"/>
            <a:ext cx="3029040" cy="2019240"/>
          </a:xfrm>
          <a:prstGeom prst="rect">
            <a:avLst/>
          </a:prstGeom>
          <a:ln w="0">
            <a:noFill/>
          </a:ln>
        </p:spPr>
      </p:pic>
      <p:pic>
        <p:nvPicPr>
          <p:cNvPr id="177" name="Picture 12" descr="--_1_~1"/>
          <p:cNvPicPr/>
          <p:nvPr/>
        </p:nvPicPr>
        <p:blipFill>
          <a:blip r:embed="rId4"/>
          <a:stretch/>
        </p:blipFill>
        <p:spPr>
          <a:xfrm>
            <a:off x="4500720" y="4076640"/>
            <a:ext cx="3727440" cy="2019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Comic Sans MS"/>
              </a:rPr>
              <a:t>Παρεμβολές</a:t>
            </a:r>
            <a:endParaRPr b="0" lang="en-US" sz="4400" spc="-1" strike="noStrike">
              <a:solidFill>
                <a:srgbClr val="000000"/>
              </a:solidFill>
              <a:latin typeface="Arial"/>
            </a:endParaRPr>
          </a:p>
        </p:txBody>
      </p:sp>
      <p:sp>
        <p:nvSpPr>
          <p:cNvPr id="179" name="PlaceHolder 2"/>
          <p:cNvSpPr>
            <a:spLocks noGrp="1"/>
          </p:cNvSpPr>
          <p:nvPr>
            <p:ph/>
          </p:nvPr>
        </p:nvSpPr>
        <p:spPr>
          <a:xfrm>
            <a:off x="837720" y="1904760"/>
            <a:ext cx="8007480" cy="20192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ε γενικές γραμμές, τα ασύρματα δίκτυα είναι τουλάχιστον το ίδιο αξιόπιστα     με τα ενσύρματα και πιο εύκολα στην αντιμετώπιση προβλημάτων. </a:t>
            </a:r>
            <a:endParaRPr b="0" lang="en-US" sz="1800" spc="-1" strike="noStrike">
              <a:solidFill>
                <a:srgbClr val="000000"/>
              </a:solidFill>
              <a:latin typeface="Arial"/>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Όμως είναι ευάλωτα στις παρεμβολές. Οι παρεμβολές αυτές μπορεί να προέρχονται από απλές ηλεκτρονικές ή ηλεκτρομηχανικές συσκευές, όπως ασύρματα και κινητά τηλέφωνα, ασύρματο πληκτρολόγιο, ποντίκι. http://dp.it.teithe.gr/files/ptyxiakes/Asterisk.pdf</a:t>
            </a:r>
            <a:endParaRPr b="0" lang="en-US" sz="1800" spc="-1" strike="noStrike">
              <a:solidFill>
                <a:srgbClr val="000000"/>
              </a:solidFill>
              <a:latin typeface="Arial"/>
            </a:endParaRPr>
          </a:p>
        </p:txBody>
      </p:sp>
      <p:pic>
        <p:nvPicPr>
          <p:cNvPr id="180" name="Picture 5" descr="wireless-network"/>
          <p:cNvPicPr/>
          <p:nvPr/>
        </p:nvPicPr>
        <p:blipFill>
          <a:blip r:embed="rId1"/>
          <a:stretch/>
        </p:blipFill>
        <p:spPr>
          <a:xfrm>
            <a:off x="1547640" y="4076640"/>
            <a:ext cx="6840720" cy="237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38512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ΠΡΟΒΛΗΜΑΤΑ ΜΕΤΑΔΟΣΗΣ</a:t>
            </a:r>
            <a:endParaRPr b="0" lang="en-US" sz="4000" spc="-1" strike="noStrike">
              <a:solidFill>
                <a:srgbClr val="000000"/>
              </a:solidFill>
              <a:latin typeface="Arial"/>
            </a:endParaRPr>
          </a:p>
        </p:txBody>
      </p:sp>
      <p:sp>
        <p:nvSpPr>
          <p:cNvPr id="182" name="PlaceHolder 2"/>
          <p:cNvSpPr>
            <a:spLocks noGrp="1"/>
          </p:cNvSpPr>
          <p:nvPr>
            <p:ph/>
          </p:nvPr>
        </p:nvSpPr>
        <p:spPr>
          <a:xfrm>
            <a:off x="826920" y="404640"/>
            <a:ext cx="3927600" cy="6120000"/>
          </a:xfrm>
          <a:prstGeom prst="rect">
            <a:avLst/>
          </a:prstGeom>
          <a:noFill/>
          <a:ln w="0">
            <a:noFill/>
          </a:ln>
        </p:spPr>
        <p:txBody>
          <a:bodyPr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άν ένας ισχυρός αναμεταδότης, που λειτουργεί στην ίδια ραδιοσυχνότητα με ένα ασύρματο δίκτυο, βρίσκεται κοντά στο δίκτυο τότε το δίκτυο μπορεί να καταστεί άχρηστο. Αυτό φυσικά μπορεί να γίνει και με κακόβουλη πρόθεση από κάποιον ο οποίος θέλει να εξαπολύσει μια επίθεση προς το δίκτυο. </a:t>
            </a:r>
            <a:endParaRPr b="0" lang="en-US" sz="1600" spc="-1" strike="noStrike">
              <a:solidFill>
                <a:srgbClr val="000000"/>
              </a:solidFill>
              <a:latin typeface="Arial"/>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α ασύρματα δίκτυα είναι ευάλωτα σε επιθέσεις. Από τη στιγμή που το ασύρματο μέσο είναι κοινόχρηστο, όλοι οι ασύρματοι σταθμοί εργασίας μπορούν να «δουν» όλη την κίνηση που διασχίζει το μέσο ακριβώς με τον ίδιο τρόπο που ισχύει στους διασυνδεδεμένους με καλώδιο σε ένα hub σταθμούς εργασίας σε ένα Ethernet δίκτυο. Εάν δεν ληφθούν κάποια μέτρα για την προστασία των δεδομένων που μεταδίδονται στο μέσο τότε αυτά μπορούν να διαβαστούν από εξωτερικούς ή εσωτερικούς κακόβουλους χρήστες. Μια πολιτική ασφαλείας είναι απαραίτητη σε κάθε εγκατάσταση ασύρματου δικτύου. http://de.teikav.edu.gr/telematics/pdf/3o_Meros_Asyrmata_thlematikh.pdf</a:t>
            </a:r>
            <a:endParaRPr b="0" lang="en-US" sz="1600" spc="-1" strike="noStrike">
              <a:solidFill>
                <a:srgbClr val="000000"/>
              </a:solidFill>
              <a:latin typeface="Arial"/>
            </a:endParaRPr>
          </a:p>
        </p:txBody>
      </p:sp>
      <p:pic>
        <p:nvPicPr>
          <p:cNvPr id="183" name="Εικόνα 1" descr="Εικόνα ασύρματου δικτύου με κοινόχρηστη σύνδεση στο Internet"/>
          <p:cNvPicPr/>
          <p:nvPr/>
        </p:nvPicPr>
        <p:blipFill>
          <a:blip r:embed="rId1"/>
          <a:stretch/>
        </p:blipFill>
        <p:spPr>
          <a:xfrm>
            <a:off x="4859280" y="1125360"/>
            <a:ext cx="4033800" cy="4918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44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ΑΣΦΑΛΕΙΑ ΜΕΤΑΔΟΣΗΣ</a:t>
            </a:r>
            <a:endParaRPr b="0" lang="en-US" sz="4000" spc="-1" strike="noStrike">
              <a:solidFill>
                <a:srgbClr val="000000"/>
              </a:solidFill>
              <a:latin typeface="Arial"/>
            </a:endParaRPr>
          </a:p>
        </p:txBody>
      </p:sp>
      <p:sp>
        <p:nvSpPr>
          <p:cNvPr id="185" name="PlaceHolder 2"/>
          <p:cNvSpPr>
            <a:spLocks noGrp="1"/>
          </p:cNvSpPr>
          <p:nvPr>
            <p:ph/>
          </p:nvPr>
        </p:nvSpPr>
        <p:spPr>
          <a:xfrm>
            <a:off x="837720" y="620280"/>
            <a:ext cx="8007480" cy="57610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Η ασφάλεια είναι και αυτή ένα σημαντικό μέρος. Μη σωστά εγκατεστημένα δίκτυα ή δίκτυα με χαμηλή ασφάλεια μπορούν πολύ εύκολα να παραβιαστούν από άτομα ειδικευμένα στις παραβιάσεις (hackers).</a:t>
            </a:r>
            <a:endParaRPr b="0" lang="en-US" sz="24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Ούτως ή άλλως το φλέγον ζήτημα στις εφαρμογές δικτύωσης. Ο κίνδυνος εισβολής στο δίκτυο μας είναι πάντα υπαρκτός. Τα ασύρματα δίκτυα τηρούν δικές τους διαδικασίες προστασίας με πιο διαδεδομένες μεθόδους τις : WEP, MAC/IP, Filtering, Protocol Filtering, δόμηση κλειστού δικτύου και VPNs.</a:t>
            </a:r>
            <a:endParaRPr b="0" lang="en-US" sz="24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ξίζει να σημειωθεί ότι πολλές τράπεζες χρησιμοποιούν ασύρματα links για την σύνδεση υποκαταστημάτων τους χωρίς να έχει αναφερθεί μέχρι σήμερα παραβίαση συστημάτων. http://dp.it.teithe.gr/files/ptyxiakes/Asterisk.pd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ΟΙ ΚΙΝΔΥΝΟΙ ΣΥΝΔΕΣΗΣ ΜΕ ΕΝΑ     ΔΗΜΟΣΙΟ ΑΣΥΡΜΑΤΟ ΔΙΚΤΥΟ</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α δημόσια ασύρματα δίκτυα είναι βολικά, αλλά, εάν δεν διαθέτουν την κατάλληλη προστασία, η σύνδεση σε αυτά μπορεί να ενέχει κινδύνους. Όταν αυτό είναι δυνατό, καλό είναι να συνδέεστε αποκλειστικά σε ασύρματα δίκτυα που απαιτούν κλειδί ασφαλείας δικτύου ή διαθέτουν ασφάλεια άλλου είδους, όπως για παράδειγμα πιστοποιητικό. Οι πληροφορίες που αποστέλλονται μέσω αυτών των δικτύων είναι κρυπτογραφημένες. Έτσι ο υπολογιστής σας προστατεύεται καλύτερα από τη μη εξουσιοδοτημένη πρόσβαση. Στη λίστα των διαθέσιμων ασύρματων δικτύων, κάθε δίκτυο σημαίνεται ανάλογα με το εάν διαθέτει ενεργοποίηση ασφαλείας ή όχι. Εάν συνδεθείτε σε ένα μη ασφαλές δίκτυο, θα πρέπει να έχετε υπόψη ότι κάποιος που διαθέτει τα κατάλληλα εργαλεία θα μπορεί να δει οτιδήποτε κάνετε, συμπεριλαμβανομένων των τοποθεσιών Web που επισκέπτεστε, των εγγράφων που επεξεργάζεστε και των ονομάτων χρήστη ή των κωδικών πρόσβασης που χρησιμοποιείτε. Όταν είστε συνδεδεμένοι σ' αυτό το δίκτυο, δεν θα πρέπει να εργάζεστε με έγγραφα ή να επισκέπτεστε τοποθεσίες Web που περιέχουν προσωπικές πληροφορίες, όπως για παράδειγμα τις κινήσεις του λογαριασμού σαςΤα ασύρματα δίκτυα δεν είναι ασφαλή εξ’ ορισμού. Πρέπει να ληφθεί υπόψη η ασφάλιση του δικτύου σε πολλά επίπεδα συμπεριλαμβανομένων του ποιος έχει πρόσβαση στο μέσο καθώς και της παράνομης υποκλοπής δεδομένων. Τεχνολογίες όπως το WPA έχουν μειώσει σημαντικά τους κινδύνους τέτοιων δικτύων. http://windows.microsoft.com/el-GR/windows-vista/Wireless-networking-frequently-asked-ques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ΑΧΥΤΗΤΑ</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ταχύτητες που προσφέρουν τα ασύρματα προς το παρόν, ακόμη και σε ιδανικές συνθήκες σήματος είναι στην καλύτερη περίπτωση 54Mbp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ίναι κατά πολύ μικρότερη σε σύγκριση με την ενσύρματη τεχνολογία που επιτυγχάνουμε ρυθμούς μετάδοσης 1 και 10Gbp</a:t>
            </a:r>
            <a:r>
              <a:rPr b="0" lang="en-US" sz="2000" spc="-1" strike="noStrike">
                <a:solidFill>
                  <a:srgbClr val="000000"/>
                </a:solidFill>
                <a:latin typeface="Arial"/>
              </a:rPr>
              <a:t>s</a:t>
            </a:r>
            <a:r>
              <a:rPr b="0" lang="el-GR" sz="2000" spc="-1" strike="noStrike">
                <a:solidFill>
                  <a:srgbClr val="000000"/>
                </a:solidFill>
                <a:latin typeface="Arial"/>
              </a:rPr>
              <a:t>. http://dp.it.teithe.gr/files/ptyxiakes/Asterisk.pd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ταχύτητα στο ασύρματο δίκτυο εξαρτάται από το πρωτόκολλο που έχει επιλεγεί αλλά συνήθως είναι εξασθενισμένη και πιο ασταθής από ότι στα συμβατικά δίκτυα. Τα καινούρια δίκτυα επιτρέπουν ταχύτητες μέχρι και 100Mbps και τα παλιότερα δίκτυα των 10Mbps θα μπορούν να χρησιμοποιηθούν παράλληλα.</a:t>
            </a:r>
            <a:br>
              <a:rPr sz="2000"/>
            </a:br>
            <a:r>
              <a:rPr b="0" lang="el-GR" sz="2000" spc="-1" strike="noStrike">
                <a:solidFill>
                  <a:srgbClr val="000000"/>
                </a:solidFill>
                <a:latin typeface="Arial"/>
              </a:rPr>
              <a:t>Για τις περισσότερες εφαρμογές τα δίκτυα των 10Mbps και 54Mbps είναι επαρκή εκτός κι αν χρειάζεται να μεταφέρονται μεγάλα αρχεία μεταξύ των υπολογιστών. http://users.sch.gr/angnikolou/tech_v/wireless.h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ΚΟΣΤΟΣ ΚΑΙ ΥΓΕΙΑ </a:t>
            </a: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κόστος είναι ένας ακόμα λόγος που μπορεί ένα ασύρματο δίκτυο να μην πληροί τις ανάγκες σας. Παρόλο που οι τιμές τα τελευταία χρόνια έχουν πέσει αρκετά και οι συσκευές είναι πιο προσιτές στους καταναλωτές παραμένουν να είναι αρκετά ακριβές. Για παράδειγμα: μία κάρτα δικτύου μπορεί να στοιχίζει και 20 Ευρώ ενώ ένα αντίστοιχο σύστημα μπορεί να στοιχίσει ακόμα και δύο με τρεις φορές περισσότερο..</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Υγεία</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 κίνδυνος από την ηλεκτρομαγνητική ακτινοβολία για την ανθρώπινη υγεία  είναι εξαιρετικά δύσκολο να εκτιμηθεί εργαστηριακά, καθώς σε πραγματικές συνθήκες η έκθεση είναι μακροχρόνια και με μικρής ισχύος κύματα. Όλες οι ασύρματες συσκευές που είναι βασισμένες στο 802.11 συνοδεύονται από</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γκριση ασφαλείας από την ευρωπαϊκή ένωση. Συνολικά και με τα υπάρχοντα επιστημονικά δεδομένα τα ασύρματα δίκτυα κρίνονται ασφαλή.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ια ειδικές περιπτώσεις π.χ. βηματοδότη ή προβληματικό ιστορικό στις ακτινοβολίες καλό είναι να συμβουλευτούμε τον γιατρό μα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dp.it.teithe.gr/files/ptyxiakes/Asterisk.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   </a:t>
            </a:r>
            <a:r>
              <a:rPr b="0" lang="el-GR" sz="4400" spc="-1" strike="noStrike">
                <a:solidFill>
                  <a:srgbClr val="000000"/>
                </a:solidFill>
                <a:latin typeface="Arial"/>
              </a:rPr>
              <a:t>ΠΗΓΕΣ ΠΛΗΡΟΦΟΡΙΩΝ </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windows.microsoft.com/el-GR/windows-vista/Wireless-networking-frequently-asked-ques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de.teikav.edu.gr/telematics/pdf/3o_Meros_Asyrmata_thlematikh.p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dp.it.teithe.gr/files/ptyxiakes/Asterisk.pd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http://users.sch.gr/angnikolou/tech_v/wireless.h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pic>
        <p:nvPicPr>
          <p:cNvPr id="57" name="Picture 2" descr=""/>
          <p:cNvPicPr/>
          <p:nvPr/>
        </p:nvPicPr>
        <p:blipFill>
          <a:blip r:embed="rId1"/>
          <a:stretch/>
        </p:blipFill>
        <p:spPr>
          <a:xfrm>
            <a:off x="0" y="1989000"/>
            <a:ext cx="914400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59" name=""/>
          <p:cNvSpPr txBox="1"/>
          <p:nvPr/>
        </p:nvSpPr>
        <p:spPr>
          <a:xfrm>
            <a:off x="457200" y="1599840"/>
            <a:ext cx="8229600" cy="4708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α ποιο δημοφιλή πρωτόκολλα τα οποία χρησιμοποιούνται ποιο πολύ στο εμπόριο  είναι οι διάφορες εκδόσεις του πρότυπου </a:t>
            </a:r>
            <a:r>
              <a:rPr b="0" i="1" lang="en-US" sz="1800" spc="-1" strike="noStrike">
                <a:solidFill>
                  <a:srgbClr val="000000"/>
                </a:solidFill>
                <a:latin typeface="Arial"/>
              </a:rPr>
              <a:t>IEEE</a:t>
            </a:r>
            <a:r>
              <a:rPr b="0" i="1" lang="el-GR" sz="1800" spc="-1" strike="noStrike">
                <a:solidFill>
                  <a:srgbClr val="000000"/>
                </a:solidFill>
                <a:latin typeface="Arial"/>
              </a:rPr>
              <a:t> 802.11!! Οι εκδόσεις αυτές είναι το 802.11</a:t>
            </a:r>
            <a:r>
              <a:rPr b="0" i="1" lang="en-US" sz="1800" spc="-1" strike="noStrike">
                <a:solidFill>
                  <a:srgbClr val="000000"/>
                </a:solidFill>
                <a:latin typeface="Arial"/>
              </a:rPr>
              <a:t>b</a:t>
            </a:r>
            <a:r>
              <a:rPr b="0" i="1" lang="el-GR" sz="1800" spc="-1" strike="noStrike">
                <a:solidFill>
                  <a:srgbClr val="000000"/>
                </a:solidFill>
                <a:latin typeface="Arial"/>
              </a:rPr>
              <a:t> (γνωστό και ως </a:t>
            </a:r>
            <a:r>
              <a:rPr b="0" i="1" lang="en-US" sz="1800" spc="-1" strike="noStrike">
                <a:solidFill>
                  <a:srgbClr val="000000"/>
                </a:solidFill>
                <a:latin typeface="Arial"/>
              </a:rPr>
              <a:t>Wi</a:t>
            </a:r>
            <a:r>
              <a:rPr b="0" i="1" lang="el-GR" sz="1800" spc="-1" strike="noStrike">
                <a:solidFill>
                  <a:srgbClr val="000000"/>
                </a:solidFill>
                <a:latin typeface="Arial"/>
              </a:rPr>
              <a:t>-</a:t>
            </a:r>
            <a:r>
              <a:rPr b="0" i="1" lang="en-US" sz="1800" spc="-1" strike="noStrike">
                <a:solidFill>
                  <a:srgbClr val="000000"/>
                </a:solidFill>
                <a:latin typeface="Arial"/>
              </a:rPr>
              <a:t>Fi</a:t>
            </a:r>
            <a:r>
              <a:rPr b="0" i="1" lang="el-GR" sz="1800" spc="-1" strike="noStrike">
                <a:solidFill>
                  <a:srgbClr val="000000"/>
                </a:solidFill>
                <a:latin typeface="Arial"/>
              </a:rPr>
              <a:t>), το 802.11</a:t>
            </a:r>
            <a:r>
              <a:rPr b="0" i="1" lang="en-US" sz="1800" spc="-1" strike="noStrike">
                <a:solidFill>
                  <a:srgbClr val="000000"/>
                </a:solidFill>
                <a:latin typeface="Arial"/>
              </a:rPr>
              <a:t>g</a:t>
            </a:r>
            <a:r>
              <a:rPr b="0" i="1" lang="el-GR" sz="1800" spc="-1" strike="noStrike">
                <a:solidFill>
                  <a:srgbClr val="000000"/>
                </a:solidFill>
                <a:latin typeface="Arial"/>
              </a:rPr>
              <a:t>(επέκταση του 802.11</a:t>
            </a:r>
            <a:r>
              <a:rPr b="0" i="1" lang="en-US" sz="1800" spc="-1" strike="noStrike">
                <a:solidFill>
                  <a:srgbClr val="000000"/>
                </a:solidFill>
                <a:latin typeface="Arial"/>
              </a:rPr>
              <a:t>b</a:t>
            </a:r>
            <a:r>
              <a:rPr b="0" i="1" lang="el-GR" sz="1800" spc="-1" strike="noStrike">
                <a:solidFill>
                  <a:srgbClr val="000000"/>
                </a:solidFill>
                <a:latin typeface="Arial"/>
              </a:rPr>
              <a:t>) και το 802.11</a:t>
            </a:r>
            <a:r>
              <a:rPr b="0" i="1" lang="en-US" sz="1800" spc="-1" strike="noStrike">
                <a:solidFill>
                  <a:srgbClr val="000000"/>
                </a:solidFill>
                <a:latin typeface="Arial"/>
              </a:rPr>
              <a:t>a</a:t>
            </a:r>
            <a:r>
              <a:rPr b="0" i="1" lang="el-GR" sz="1800" spc="-1" strike="noStrike">
                <a:solidFill>
                  <a:srgbClr val="000000"/>
                </a:solidFill>
                <a:latin typeface="Arial"/>
              </a:rPr>
              <a:t>… Γενικά το πρωτόκολλο 802.11 αναπτύχθηκε το 1997, χρονιά κατά την οποία μπήκαν τα θεμέλια για τα πρώτα ασύρματα δίκτυα υπολογιστών με μέγιστη ταχύτητα μεταφοράς δεδομένων 2</a:t>
            </a:r>
            <a:r>
              <a:rPr b="0" i="1" lang="en-US" sz="1800" spc="-1" strike="noStrike">
                <a:solidFill>
                  <a:srgbClr val="000000"/>
                </a:solidFill>
                <a:latin typeface="Arial"/>
              </a:rPr>
              <a:t>Mbps</a:t>
            </a:r>
            <a:r>
              <a:rPr b="0" i="1" lang="el-GR" sz="1800" spc="-1" strike="noStrike">
                <a:solidFill>
                  <a:srgbClr val="000000"/>
                </a:solidFill>
                <a:latin typeface="Arial"/>
              </a:rPr>
              <a:t>… Το 802.11 είναι ουσιαστικά μια οικογένεια πρωτοκόλλων που περιγράφουν τη λειτουργία ασύρματων τοπικών δικτύων </a:t>
            </a:r>
            <a:r>
              <a:rPr b="0" i="1" lang="en-US" sz="1800" spc="-1" strike="noStrike">
                <a:solidFill>
                  <a:srgbClr val="000000"/>
                </a:solidFill>
                <a:latin typeface="Arial"/>
              </a:rPr>
              <a:t>WLAN</a:t>
            </a:r>
            <a:r>
              <a:rPr b="0" i="1" lang="el-GR"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u="sng">
                <a:solidFill>
                  <a:srgbClr val="000000"/>
                </a:solidFill>
                <a:uFillTx/>
                <a:latin typeface="Arial"/>
              </a:rPr>
              <a:t>Πρωτόκολλα Ασύρματων Δικτύων</a:t>
            </a:r>
            <a:endParaRPr b="0" lang="en-US" sz="4400" spc="-1" strike="noStrike">
              <a:solidFill>
                <a:srgbClr val="000000"/>
              </a:solidFill>
              <a:latin typeface="Arial"/>
            </a:endParaRPr>
          </a:p>
        </p:txBody>
      </p:sp>
      <p:sp>
        <p:nvSpPr>
          <p:cNvPr id="61" name=""/>
          <p:cNvSpPr txBox="1"/>
          <p:nvPr/>
        </p:nvSpPr>
        <p:spPr>
          <a:xfrm>
            <a:off x="457200" y="1600200"/>
            <a:ext cx="8229600" cy="506880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u="sng">
                <a:solidFill>
                  <a:srgbClr val="000000"/>
                </a:solidFill>
                <a:uFillTx/>
                <a:latin typeface="Arial"/>
              </a:rPr>
              <a:t>802.11</a:t>
            </a:r>
            <a:r>
              <a:rPr b="1" i="1" lang="en-US" sz="1800" spc="-1" strike="noStrike" u="sng">
                <a:solidFill>
                  <a:srgbClr val="000000"/>
                </a:solidFill>
                <a:uFillTx/>
                <a:latin typeface="Arial"/>
              </a:rPr>
              <a:t>b</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 802.11</a:t>
            </a:r>
            <a:r>
              <a:rPr b="0" i="1" lang="en-US" sz="1800" spc="-1" strike="noStrike">
                <a:solidFill>
                  <a:srgbClr val="000000"/>
                </a:solidFill>
                <a:latin typeface="Arial"/>
              </a:rPr>
              <a:t>b</a:t>
            </a:r>
            <a:r>
              <a:rPr b="0" i="1" lang="el-GR" sz="1800" spc="-1" strike="noStrike">
                <a:solidFill>
                  <a:srgbClr val="000000"/>
                </a:solidFill>
                <a:latin typeface="Arial"/>
              </a:rPr>
              <a:t> είναι το πρώτο πρότυπο που χρησιμοποιήθηκε ευρέως στα τοπικά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ασύρματα δίκτυα..Επίσης το πρότυπο 802.11b είναι γνωστό και ως Wi-Fi…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δημιουργήθηκε τον Ιούλιο το 1999.Είναι το πιο δοκιμασμένο πρότυπο και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είται σχεδόν αποκλειστικά, ειδικά στην Ελλάδα. Το πρότυπο αυτό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λειτουργεί στην συχνότητα των 2,4</a:t>
            </a:r>
            <a:r>
              <a:rPr b="0" i="1" lang="en-US" sz="1800" spc="-1" strike="noStrike">
                <a:solidFill>
                  <a:srgbClr val="000000"/>
                </a:solidFill>
                <a:latin typeface="Arial"/>
              </a:rPr>
              <a:t>GHz</a:t>
            </a:r>
            <a:r>
              <a:rPr b="0" i="1" lang="el-GR" sz="1800" spc="-1" strike="noStrike">
                <a:solidFill>
                  <a:srgbClr val="000000"/>
                </a:solidFill>
                <a:latin typeface="Arial"/>
              </a:rPr>
              <a:t> , εξασφαλίζοντας ονομαστικές ταχύτητες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11</a:t>
            </a:r>
            <a:r>
              <a:rPr b="0" i="1" lang="en-US" sz="1800" spc="-1" strike="noStrike">
                <a:solidFill>
                  <a:srgbClr val="000000"/>
                </a:solidFill>
                <a:latin typeface="Arial"/>
              </a:rPr>
              <a:t>Mbps</a:t>
            </a:r>
            <a:r>
              <a:rPr b="0" i="1" lang="el-GR" sz="1800" spc="-1" strike="noStrike">
                <a:solidFill>
                  <a:srgbClr val="000000"/>
                </a:solidFill>
                <a:latin typeface="Arial"/>
              </a:rPr>
              <a:t>, οι οποίες όμως σε πραγματικές συνθήκες είναι μικρότερες. Το 802.11b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χρησιμοποιεί την μέθοδο επικοινωνίας μέσω ραδιοκυμάτων Direct Sequence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Spread Spectrum (DSSS). Το DSSS είναι ένας τρόπος να χωρίσει κανείς τη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συχνότητα των 2,4GHz σε κανάλια. Η τυπική απόσταση μεταξύ των συσκευώ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πρέπει να είναι περίπου 30 μέτρα σε εσωτερικό χώρο και πάνω από 120-150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μέτρα σε εξωτερικό χώρο. Αυτές οι αποστάσεις μπορούν να αυξηθούν </a:t>
            </a: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rPr>
              <a:t>τοποθετώντας εξωτερικές κεραίες που ενισχύουν το σήμα.</a:t>
            </a:r>
            <a:endParaRPr b="0" lang="en-US" sz="18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a:t>
            </a:r>
            <a:r>
              <a:rPr b="0" lang="el-GR" sz="1200" spc="-1" strike="noStrike" u="sng">
                <a:solidFill>
                  <a:srgbClr val="009999"/>
                </a:solidFill>
                <a:uFillTx/>
                <a:latin typeface="Arial"/>
                <a:hlinkClick r:id="rId1"/>
              </a:rPr>
              <a:t>http://conta.uom.gr/conta/ekpaideysh/metaptyxiaka/technologies_diktywn/ergasies/2005/Educational%20software%20of%20self-teaching%20of%20Protocols%20for%20Wireless%20Networks.pdf</a:t>
            </a:r>
            <a:r>
              <a:rPr b="0" lang="el-GR"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u="sng">
                <a:solidFill>
                  <a:srgbClr val="009999"/>
                </a:solidFill>
                <a:uFillTx/>
                <a:latin typeface="Arial"/>
                <a:hlinkClick r:id="rId2"/>
              </a:rPr>
              <a:t>http://de.teikav.edu.gr/telematics/pdf/3o_Meros_Asyrmata_thlematikh.pdf</a:t>
            </a:r>
            <a:r>
              <a:rPr b="0" lang="el-GR" sz="1200" spc="-1" strike="noStrike">
                <a:solidFill>
                  <a:srgbClr val="000000"/>
                </a:solidFill>
                <a:latin typeface="Arial"/>
              </a:rPr>
              <a:t>, )</a:t>
            </a:r>
            <a:endParaRPr b="0" lang="en-US" sz="12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18:22:10Z</dcterms:created>
  <dc:creator>Tasoula</dc:creator>
  <dc:description/>
  <dc:language>en-US</dc:language>
  <cp:lastModifiedBy>MATRIX COMPUTERS</cp:lastModifiedBy>
  <dcterms:modified xsi:type="dcterms:W3CDTF">2012-04-06T17:54:25Z</dcterms:modified>
  <cp:revision>29</cp:revision>
  <dc:subject/>
  <dc:title>ΕΡΓΑΣΙΑ: ΑΣΥΡΜΑΤΑ ΔΙΚΤΥΑ</dc:title>
</cp:coreProperties>
</file>